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A2CC3-C158-41E1-88F1-41E5B05C1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BFF8-FA53-4970-8484-C64A86E63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33C40-C805-4195-B2CD-4F1A409A8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D7A7D-2751-4FF5-A785-3C84371AC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0E062-C64E-46DB-8E3D-95B1DD4B5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660A5-3759-46A2-9D5A-3CA6A6EC9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BC575-74D6-4F78-82B0-3D1B6D7E4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B1B34-57DA-47FA-AF56-8325871A0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42A88-D895-43A9-896D-53B906B24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FF253-DFEF-488A-AF52-F0A7D547C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1501E-0660-459D-8A2D-9F82EBCD9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66CB3-3048-4EBB-A257-06242D39F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E1BFA-A836-4196-946E-97C345D7A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C92B4-41D1-4552-8724-E82527EFB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258B5-BB3C-4779-890F-96FAE20CB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4A21C-2950-46C7-A942-ACE255740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BEA72-9AA9-4BA5-B51E-31C25A048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899A3-C15F-4BA4-849D-690CC2B8D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53C52-2B87-4ED4-B347-9A362086F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7F6CE-5584-4241-BA91-A0EC2879C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E0E44-95A9-42F3-8D39-262D1847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6A550-60B0-4891-94B2-FB21AC5A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28941-CCD8-476F-BA26-99B68838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BD0C-E9A5-401E-AF9B-A166E6E4F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713A-5060-42FC-92DC-857AE685C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048A-5DB1-427E-9D56-7476508E8F4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Alternative Unit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y have them?</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ich are 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ifferent strokes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Not all chemists deal with the same concentr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ome deal with huge amounts of s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thers deal with minute amounts of samp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anger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ertain chemicals are dangerous in very small amounts – lead, arsenic, PC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nitoring of industrial and environmental sites for contaminants and/or polluta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Environmental chemists perhap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often have to deal with contaminants that are very low in concentration and difficult to detect, although many can be very harmful to humans and other life forms even in these low concentration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must use a different set of units for these minute concentrations – commonly used are </a:t>
            </a:r>
            <a:r>
              <a:rPr b="1" lang="en-US" sz="2800" spc="-1" strike="noStrike">
                <a:solidFill>
                  <a:srgbClr val="ff0000"/>
                </a:solidFill>
                <a:latin typeface="Tahoma"/>
              </a:rPr>
              <a:t>parts per million (ppm), parts per billion (ppb) and parts per trillion (ppt).</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ow much is a ppm?</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sounds very sm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One part of contaminant / chemical / pollutant per 1 million parts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But, what’s that mean?</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like saying 1mg (milligram for the lost) of chemical in a kilogram of water (assuming an aqueous environment).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since the density of water = 1g/mL, then </a:t>
            </a:r>
            <a:r>
              <a:rPr b="1" lang="en-US" sz="3200" spc="-1" strike="noStrike">
                <a:solidFill>
                  <a:srgbClr val="ff0000"/>
                </a:solidFill>
                <a:latin typeface="Tahoma"/>
              </a:rPr>
              <a:t>its 1 mg of chemical in 1L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n why ppt?</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aker concentrations of ppm and ppt, can be formalized a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b = 1</a:t>
            </a:r>
            <a:r>
              <a:rPr b="1" lang="en-US" sz="2800" spc="-1" strike="noStrike">
                <a:solidFill>
                  <a:srgbClr val="ff0000"/>
                </a:solidFill>
                <a:latin typeface="Symbol"/>
                <a:ea typeface="Symbol"/>
              </a:rPr>
              <a:t></a:t>
            </a:r>
            <a:r>
              <a:rPr b="1" lang="en-US" sz="2800" spc="-1" strike="noStrike">
                <a:solidFill>
                  <a:srgbClr val="ff0000"/>
                </a:solidFill>
                <a:latin typeface="Tahoma"/>
              </a:rPr>
              <a:t>g (microgram) of chemical per litre of water, AND</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t = 1ng (nanogram) of chemical per litre of wa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Nasty PCB’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chlorinated biphenyls (PCB’s) are mixtures of chlorinated compounds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have been used as coolants and lubricants in transformers, capacitors, and other electrical equipment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Bs do not readily break down in the environment and thus may remain there for very long periods of tim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o what’s a safe limit?</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US, the EPA (Environmental Protection Agency) has set a </a:t>
            </a:r>
            <a:r>
              <a:rPr b="1" lang="en-US" sz="2800" spc="-1" strike="noStrike">
                <a:solidFill>
                  <a:srgbClr val="ff0000"/>
                </a:solidFill>
                <a:latin typeface="Tahoma"/>
              </a:rPr>
              <a:t>permissible level of PCB’s in drinking water at 4pp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the analysis apparatus must be able to accurately measure at that level.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s are large and we are almost talking the chances of winning the lottery as equal to the chances of finding the particular chemic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2:02:37Z</dcterms:created>
  <dc:creator>Admin </dc:creator>
  <dc:description/>
  <dc:language>en-US</dc:language>
  <cp:lastModifiedBy>Anti-Virus Installation</cp:lastModifiedBy>
  <dcterms:modified xsi:type="dcterms:W3CDTF">2010-04-26T05:36:58Z</dcterms:modified>
  <cp:revision>28</cp:revision>
  <dc:subject/>
  <dc:title>Alternative Units</dc:title>
</cp:coreProperties>
</file>