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5.wmf" ContentType="image/x-wmf"/>
  <Override PartName="/ppt/media/image46.jpeg" ContentType="image/jpeg"/>
  <Override PartName="/ppt/media/image54.png" ContentType="image/png"/>
  <Override PartName="/ppt/media/image49.png" ContentType="image/png"/>
  <Override PartName="/ppt/media/image51.png" ContentType="image/png"/>
  <Override PartName="/ppt/media/image34.wmf" ContentType="image/x-wmf"/>
  <Override PartName="/ppt/media/image50.png" ContentType="image/png"/>
  <Override PartName="/ppt/media/image13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AD5-2096-4B0C-A136-1A4FE544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654-C311-4706-8E4C-F2316B60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BA8-D1DE-4C28-9C61-783B8277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7A5-9188-4177-BE1D-89469792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D67C-8334-438F-B130-96D861B3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C5F1-7FEE-4805-AE4A-DA01877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1402-E716-4E37-8D1D-83A7485E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4C36-3107-4179-A706-2CC34418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21AB-486B-48F0-A54F-AC3F5658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A0F8-D23F-4E2B-8C3E-3D069D95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763A-E4FB-4A54-99B9-1E8A8533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249-6129-4D4C-B30A-ACE989D1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4603-F90A-4E98-81B0-6BEFA66D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036A-39B2-46C5-AF1F-9AE4F76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6551-F868-4327-A2B7-51FB92F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5C14-6B5D-48EC-ADFB-F2264677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D47A-B817-41BA-96FD-3F37F9BF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3C40-0B43-4CEE-ABB6-8A3280EF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C93E-D2CA-474F-9218-B8C30264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F962-94FE-48EB-B131-BBED066B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8773-6115-4B52-9ECD-55464CCB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D332-AC6E-4052-AE4E-E463C1C2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E2E-3BEF-405C-9957-AB1DE013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979C-AEE4-4161-B41B-9298231E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8A54-BC68-45C6-A17A-C1D82271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6212-39C3-4E45-A344-C8359438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E04A-1C31-4D7E-A16E-0DE5DDF7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2337-31A5-4FC8-8399-03DA28C1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D80F-1043-41A9-BB6F-7B999A8F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04EF-8F01-4214-981F-18F8CD72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381A-F66F-4F58-9CE0-E8809D32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4E813-A6C3-4FC6-A1E7-976250EA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A402-AC5E-47F6-8572-0F79F17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F1A-B83D-4EC3-A05B-433F6A11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A18B-87B1-4897-8281-02F26E85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65E6-AE6F-41CF-BD68-9C752802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B9C6-39B9-4014-8A7C-E5DEC494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E37C-69E2-45C0-940E-07EBE1B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74AE-E34B-4D8A-8A12-D61AC7E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3EDF-C4A9-4D78-BCDD-DA956F32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1F28-9297-426F-9AA5-7134CB95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049A-A202-4C27-9375-A7C5C756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710F4-EA27-41D3-8C00-B9A7C3F7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75217-FEF5-414C-9CAF-C75770F3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72A-74BF-4669-9575-AFDF59D7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9DEE7-FCFD-43AC-8B5F-D4CE4FEF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51CC3-3BDF-4152-8A48-057D082F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821EB-67E3-4C47-B64E-A59504B1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2E261-F430-4A88-9578-C0C21432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2830-0FC2-4732-A5D1-17272A27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E8302-210B-48F4-BFDA-F02AFF57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56FD-2420-4FE3-A87F-126AEF3B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C602-9FEF-4018-89EE-7A90248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493A7-E9B1-4F3C-8B0B-BE12EAFB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6E14-B4B0-4E31-AEB3-685C704B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2A9-8812-45BF-81D8-F13083E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A245F-C1E0-4EA8-A002-1223C76C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36657-0590-45AA-A601-D4C47C8E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E334-E4AB-4575-997A-DA677013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7E99-039B-4F47-B9C0-1A1D72C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887D2-7B93-4E94-AC14-365A5E39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9E4C-0FB3-4D1C-AF12-3961355C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BAD1E-7CBF-4027-A13E-8AEAD036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BA6F1-8FEA-4AD1-B28C-B8F253E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E480C-311D-4D83-89DD-CA153EE7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631CB-FE66-45AD-BD5B-D30B05E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3C3-DF19-441A-A105-AE399CF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11EB3-3FA2-4FC0-B3E2-7B453D9F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E3F30-94C1-4F2D-A842-1596768C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BDB01-DC40-4DCC-AAB6-43CD038C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989-BC3B-484F-92CD-EE17928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55C-663F-46ED-9228-5740684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9579-BC9B-4D27-9A7C-57C2F517BBF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55C4-1560-4D33-A82D-6B18B708EBB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5ECD-1DB2-47A1-874C-4EEA8343FB7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CE7-9CE9-429B-BC24-67C12096B9C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6D5-92C1-4ADA-AC51-1DCD50AD7D7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0554-CE02-4947-994C-3FB8A815B4D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Year 12 HSC Chemis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585720" y="2786040"/>
            <a:ext cx="7405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utoShape 2" descr=""/>
          <p:cNvPicPr/>
          <p:nvPr/>
        </p:nvPicPr>
        <p:blipFill>
          <a:blip r:embed="rId1"/>
          <a:stretch/>
        </p:blipFill>
        <p:spPr>
          <a:xfrm>
            <a:off x="2054160" y="3638520"/>
            <a:ext cx="6950160" cy="2182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143000" y="731880"/>
            <a:ext cx="6400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 special covalent bond form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is called a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co-ordinate covalent b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ne of the oxygen molecule atoms has to share two of its electrons with the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9" name="Picture 5" descr="http://ibchem.com/drop/O3.gif"/>
          <p:cNvPicPr/>
          <p:nvPr/>
        </p:nvPicPr>
        <p:blipFill>
          <a:blip r:embed="rId2"/>
          <a:stretch/>
        </p:blipFill>
        <p:spPr>
          <a:xfrm>
            <a:off x="755640" y="3645000"/>
            <a:ext cx="1895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334800" y="538632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-ordinate bond – both e- come from one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Straight Arrow Connector 3" descr=""/>
          <p:cNvPicPr/>
          <p:nvPr/>
        </p:nvPicPr>
        <p:blipFill>
          <a:blip r:embed="rId3"/>
          <a:stretch/>
        </p:blipFill>
        <p:spPr>
          <a:xfrm>
            <a:off x="841320" y="4432320"/>
            <a:ext cx="116352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AutoShape 2" descr=""/>
          <p:cNvPicPr/>
          <p:nvPr/>
        </p:nvPicPr>
        <p:blipFill>
          <a:blip r:embed="rId1"/>
          <a:stretch/>
        </p:blipFill>
        <p:spPr>
          <a:xfrm>
            <a:off x="828720" y="-103320"/>
            <a:ext cx="8364600" cy="21812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156000" y="1773360"/>
            <a:ext cx="2592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Ozone is readily split apart to form oxygen molecu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 natural process occurring in the atmosphe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3397320" y="4935600"/>
          <a:ext cx="257472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7320" y="4935600"/>
                    <a:ext cx="2574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6" name="Picture 13" descr="http://www.ozonedepletion.info/education/part1/fig5.gif"/>
          <p:cNvPicPr/>
          <p:nvPr/>
        </p:nvPicPr>
        <p:blipFill>
          <a:blip r:embed="rId4"/>
          <a:stretch/>
        </p:blipFill>
        <p:spPr>
          <a:xfrm>
            <a:off x="210960" y="1125360"/>
            <a:ext cx="58993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AutoShape 2" descr=""/>
          <p:cNvPicPr/>
          <p:nvPr/>
        </p:nvPicPr>
        <p:blipFill>
          <a:blip r:embed="rId1"/>
          <a:stretch/>
        </p:blipFill>
        <p:spPr>
          <a:xfrm>
            <a:off x="682560" y="658800"/>
            <a:ext cx="5327640" cy="2181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23640" y="2637000"/>
            <a:ext cx="6877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CFC = chloro fluoro carb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FCs were developed in the early 1930s and are used in a variety of industrial, commercial, and household applic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as coolants for commercial and home refrigeration units, aerosol propellants, electronic cleaning solvents, and blowing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Picture 5" descr="http://www.soest.hawaii.edu/mguidry/Unnamed_Site_2/Chapter%202/Figures/cfcmolecules.jpg"/>
          <p:cNvPicPr/>
          <p:nvPr/>
        </p:nvPicPr>
        <p:blipFill>
          <a:blip r:embed="rId2"/>
          <a:stretch/>
        </p:blipFill>
        <p:spPr>
          <a:xfrm>
            <a:off x="6227640" y="981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static.ddmcdn.com/gif/ozone-layer-2.jpg"/>
          <p:cNvPicPr/>
          <p:nvPr/>
        </p:nvPicPr>
        <p:blipFill>
          <a:blip r:embed="rId3"/>
          <a:stretch/>
        </p:blipFill>
        <p:spPr>
          <a:xfrm>
            <a:off x="6804000" y="4890960"/>
            <a:ext cx="2232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900000" y="54936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Are compounds of bromine, fluorine and carbon (</a:t>
            </a:r>
            <a:r>
              <a:rPr b="0" i="1" lang="en-AU" sz="2200" spc="-1" strike="noStrike">
                <a:solidFill>
                  <a:srgbClr val="404040"/>
                </a:solidFill>
                <a:latin typeface="Trebuchet MS"/>
              </a:rPr>
              <a:t>although, fluorine compounds are not to blame for ozone depletion</a:t>
            </a: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alons are used as fire extinguishing agents, both in built-in systems and in handheld portable fire extinguisher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3" name="Picture 5" descr="http://www.risco.com.br/NL/MOL/14/Halon-1301-3D.jpg"/>
          <p:cNvPicPr/>
          <p:nvPr/>
        </p:nvPicPr>
        <p:blipFill>
          <a:blip r:embed="rId2"/>
          <a:stretch/>
        </p:blipFill>
        <p:spPr>
          <a:xfrm>
            <a:off x="395280" y="3713040"/>
            <a:ext cx="2448000" cy="2733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fm200.biz/danni_halons_3.gif"/>
          <p:cNvPicPr/>
          <p:nvPr/>
        </p:nvPicPr>
        <p:blipFill>
          <a:blip r:embed="rId3"/>
          <a:stretch/>
        </p:blipFill>
        <p:spPr>
          <a:xfrm>
            <a:off x="6948360" y="1197000"/>
            <a:ext cx="20289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973 chlorine was found to be a catalytic agent in ozone destructio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t essentially cleaves the ozone to produce oxygen molecules – </a:t>
            </a:r>
            <a:r>
              <a:rPr b="1" lang="en-AU" sz="2200" spc="-1" strike="noStrike">
                <a:solidFill>
                  <a:srgbClr val="4e67c8"/>
                </a:solidFill>
                <a:latin typeface="Trebuchet MS"/>
              </a:rPr>
              <a:t>see next sl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7" name="Picture 5" descr="http://blogs.mcgill.ca/oss/files/2013/05/CFC.gif"/>
          <p:cNvPicPr/>
          <p:nvPr/>
        </p:nvPicPr>
        <p:blipFill>
          <a:blip r:embed="rId2"/>
          <a:stretch/>
        </p:blipFill>
        <p:spPr>
          <a:xfrm>
            <a:off x="611280" y="3500280"/>
            <a:ext cx="2857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6"/>
          <p:cNvGraphicFramePr/>
          <p:nvPr/>
        </p:nvGraphicFramePr>
        <p:xfrm>
          <a:off x="5292720" y="3068640"/>
          <a:ext cx="4087800" cy="21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3068640"/>
                    <a:ext cx="40878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Picture 7" descr="http://www.theozonehole.com/images/cfc.jpg"/>
          <p:cNvPicPr/>
          <p:nvPr/>
        </p:nvPicPr>
        <p:blipFill>
          <a:blip r:embed="rId4"/>
          <a:stretch/>
        </p:blipFill>
        <p:spPr>
          <a:xfrm>
            <a:off x="0" y="1916280"/>
            <a:ext cx="5022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AutoShape 2" descr=""/>
          <p:cNvPicPr/>
          <p:nvPr/>
        </p:nvPicPr>
        <p:blipFill>
          <a:blip r:embed="rId1"/>
          <a:stretch/>
        </p:blipFill>
        <p:spPr>
          <a:xfrm>
            <a:off x="-139680" y="469800"/>
            <a:ext cx="4046400" cy="1498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61092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Human activity pu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chlorides and bromide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to the atm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Cold conditions are present in the Polar Regions that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allow the accumulation of the CFC’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Sunligh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reaks down the CFC’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breakdown product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destroy ozo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ozone is broken into oxygen molecul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  <a:ea typeface="宋体"/>
              </a:rPr>
              <a:t>Reduced ozone prote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in the stratosph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401840" y="4218120"/>
            <a:ext cx="7169040" cy="150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CFC problem may be hard to solve because there are already great quantities of CFCs in the environment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FCs would remain in the stratosphere for another 100 years even if none were ever produced agai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 the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Montreal Protoc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30 nations worldwide agreed to reduce usage of CFCs and encouraged other countries to do so as well (see next slide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utoShape 2" descr=""/>
          <p:cNvPicPr/>
          <p:nvPr/>
        </p:nvPicPr>
        <p:blipFill>
          <a:blip r:embed="rId1"/>
          <a:stretch/>
        </p:blipFill>
        <p:spPr>
          <a:xfrm>
            <a:off x="2054160" y="4359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55640" y="54936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The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Montreal Protocol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was a convention signed in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198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 by many countries to greatly reduce the production and use of CFCs which prevent further damage to the ozone lay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宋体"/>
              </a:rPr>
              <a:t>Since 1987, further amendments to the protocol have imposed and even greater restrictions on the production and use of potentially damaging compound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69800" y="469800"/>
            <a:ext cx="8485200" cy="1498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50560" y="2369880"/>
            <a:ext cx="2305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ce 1987, measurements of Cl compound in the atmosphere have shown a decl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s graph shows the projections with and without the measures for the reduction of these compoun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0" name="Picture 2" descr="http://www.environment.gov.au/atmosphere/ozone/legislation/images/montreal-effective-chlorine.gif"/>
          <p:cNvPicPr/>
          <p:nvPr/>
        </p:nvPicPr>
        <p:blipFill>
          <a:blip r:embed="rId2"/>
          <a:stretch/>
        </p:blipFill>
        <p:spPr>
          <a:xfrm>
            <a:off x="2556000" y="1916280"/>
            <a:ext cx="6352920" cy="455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utoShape 2" descr=""/>
          <p:cNvPicPr/>
          <p:nvPr/>
        </p:nvPicPr>
        <p:blipFill>
          <a:blip r:embed="rId1"/>
          <a:stretch/>
        </p:blipFill>
        <p:spPr>
          <a:xfrm>
            <a:off x="109440" y="-30240"/>
            <a:ext cx="6778800" cy="1498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100120" y="1916280"/>
            <a:ext cx="407844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Is fixed – i.e. closed system for matter, but not energy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Has many function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Protection from cosmic ray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Keeping us wa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Maintaining our supply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0" name="Picture 5" descr="http://hdwpapers.com/walls/earth_atmosphere_wallpapers-normal.jpg"/>
          <p:cNvPicPr/>
          <p:nvPr/>
        </p:nvPicPr>
        <p:blipFill>
          <a:blip r:embed="rId2"/>
          <a:stretch/>
        </p:blipFill>
        <p:spPr>
          <a:xfrm>
            <a:off x="324000" y="155736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1953720"/>
            <a:ext cx="34560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Ground based metho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Weather balloon-borne instrum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atellite dat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Total Ozone mapping Spectrometer (TOMS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91d34"/>
                </a:solidFill>
                <a:latin typeface="Arial"/>
                <a:ea typeface="Arial"/>
              </a:rPr>
              <a:t>Solar Backscatter UV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68000" y="691920"/>
            <a:ext cx="5398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28600" indent="-2286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191d34"/>
                </a:solidFill>
                <a:latin typeface="Arial"/>
                <a:ea typeface="Arial"/>
              </a:rPr>
              <a:t>Monitoring Ozone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3" name="Picture 2" descr="http://www.iup.uni-bremen.de/gome/GOME_10y_logo.gif"/>
          <p:cNvPicPr/>
          <p:nvPr/>
        </p:nvPicPr>
        <p:blipFill>
          <a:blip r:embed="rId1"/>
          <a:stretch/>
        </p:blipFill>
        <p:spPr>
          <a:xfrm>
            <a:off x="5143680" y="1571760"/>
            <a:ext cx="2193840" cy="217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news.spirithit.com/images/uploads/environment_378/10.12.04_satellite_378.jpg"/>
          <p:cNvPicPr/>
          <p:nvPr/>
        </p:nvPicPr>
        <p:blipFill>
          <a:blip r:embed="rId2"/>
          <a:stretch/>
        </p:blipFill>
        <p:spPr>
          <a:xfrm>
            <a:off x="4932360" y="4149720"/>
            <a:ext cx="3029040" cy="21877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"/>
          <p:cNvSpPr/>
          <p:nvPr/>
        </p:nvSpPr>
        <p:spPr>
          <a:xfrm>
            <a:off x="7524720" y="2205000"/>
            <a:ext cx="11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OME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ito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AutoShap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54840" cy="2182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Small steps are being taken to reduce CFCs including the use of alternate propellants i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Refrigeration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Air conditioning uni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Propellants for spray ca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Using pump action instead of gas propell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AutoShape 2" descr=""/>
          <p:cNvPicPr/>
          <p:nvPr/>
        </p:nvPicPr>
        <p:blipFill>
          <a:blip r:embed="rId1"/>
          <a:stretch/>
        </p:blipFill>
        <p:spPr>
          <a:xfrm>
            <a:off x="901800" y="401760"/>
            <a:ext cx="6956280" cy="2176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95280" y="2276640"/>
            <a:ext cx="619272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You bet! In place of CFCs and Halons we now us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wo main CFC replacements have been developed. They are called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alkanes (HFAs)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or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hydrofluorocarbons (HFCs),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and contain only carbon, hydrogen and fluorine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y are non-flammable and chlorine-free, so </a:t>
            </a:r>
            <a:r>
              <a:rPr b="1" lang="en-US" sz="1700" spc="-1" strike="noStrike">
                <a:solidFill>
                  <a:srgbClr val="4e67c8"/>
                </a:solidFill>
                <a:latin typeface="Trebuchet MS"/>
              </a:rPr>
              <a:t>they have no impact on the stratospheric ozone layer</a:t>
            </a: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772560" indent="-171360"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The downside – these compounds are believed to be significant </a:t>
            </a:r>
            <a:r>
              <a:rPr b="0" lang="en-US" sz="1700" spc="-1" strike="noStrike">
                <a:solidFill>
                  <a:srgbClr val="ff0000"/>
                </a:solidFill>
                <a:latin typeface="Trebuchet MS"/>
              </a:rPr>
              <a:t>greenhouse gas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0" name="Picture 5" descr="http://meteolcd.files.wordpress.com/2010/12/hfc23_molecule.jpg"/>
          <p:cNvPicPr/>
          <p:nvPr/>
        </p:nvPicPr>
        <p:blipFill>
          <a:blip r:embed="rId2"/>
          <a:stretch/>
        </p:blipFill>
        <p:spPr>
          <a:xfrm>
            <a:off x="6659640" y="3284640"/>
            <a:ext cx="23619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2205000"/>
            <a:ext cx="41655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ydrocarbons</a:t>
            </a:r>
            <a:r>
              <a:rPr b="0" lang="en-US" sz="2400" spc="-1" strike="noStrike">
                <a:solidFill>
                  <a:srgbClr val="4e67c8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ch as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pent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cyclohexan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have been put forth as replacements for coolant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7c8"/>
                </a:solidFill>
                <a:latin typeface="Trebuchet MS"/>
              </a:rPr>
              <a:t>Nitrogen ga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(inert) can be used as a blowing agent for substances like styrofo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93" name="Object 4"/>
          <p:cNvGraphicFramePr/>
          <p:nvPr/>
        </p:nvGraphicFramePr>
        <p:xfrm>
          <a:off x="6300720" y="2565360"/>
          <a:ext cx="1355760" cy="32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2565360"/>
                    <a:ext cx="13557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AutoShape 2" descr=""/>
          <p:cNvPicPr/>
          <p:nvPr/>
        </p:nvPicPr>
        <p:blipFill>
          <a:blip r:embed="rId1"/>
          <a:stretch/>
        </p:blipFill>
        <p:spPr>
          <a:xfrm>
            <a:off x="762120" y="469800"/>
            <a:ext cx="8192880" cy="14986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55280" y="2080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a very thin layer of g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Trebuchet MS"/>
              </a:rPr>
              <a:t>Is small compared to Earth itsel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3" name="Picture 7" descr="layers"/>
          <p:cNvPicPr/>
          <p:nvPr/>
        </p:nvPicPr>
        <p:blipFill>
          <a:blip r:embed="rId2"/>
          <a:stretch/>
        </p:blipFill>
        <p:spPr>
          <a:xfrm>
            <a:off x="4759200" y="2205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4" descr=""/>
          <p:cNvPicPr/>
          <p:nvPr/>
        </p:nvPicPr>
        <p:blipFill>
          <a:blip r:embed="rId1"/>
          <a:stretch/>
        </p:blipFill>
        <p:spPr>
          <a:xfrm>
            <a:off x="1554120" y="615960"/>
            <a:ext cx="7059600" cy="149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atmosphere"/>
          <p:cNvPicPr/>
          <p:nvPr/>
        </p:nvPicPr>
        <p:blipFill>
          <a:blip r:embed="rId2"/>
          <a:stretch/>
        </p:blipFill>
        <p:spPr>
          <a:xfrm>
            <a:off x="1403280" y="1989000"/>
            <a:ext cx="64612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ext Placeholder 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3346560" cy="7808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684000" y="907920"/>
            <a:ext cx="3778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The lowest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lif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wea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pollution – mainly from human impa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planes f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Text Placeholder 3" descr=""/>
          <p:cNvPicPr/>
          <p:nvPr/>
        </p:nvPicPr>
        <p:blipFill>
          <a:blip r:embed="rId2"/>
          <a:stretch/>
        </p:blipFill>
        <p:spPr>
          <a:xfrm>
            <a:off x="4211640" y="262080"/>
            <a:ext cx="3348000" cy="780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642920" y="907920"/>
            <a:ext cx="374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Home of the ozone lay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the Concorde once fle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reenhouse gases 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04040"/>
                </a:solidFill>
                <a:latin typeface="Trebuchet MS"/>
              </a:rPr>
              <a:t>Where global warming origina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0" name="Picture 5" descr="https://spark.ucar.edu/sites/default/files/images/large_image_for_image_content/troposphere_diagram_big.jpg"/>
          <p:cNvPicPr/>
          <p:nvPr/>
        </p:nvPicPr>
        <p:blipFill>
          <a:blip r:embed="rId3"/>
          <a:stretch/>
        </p:blipFill>
        <p:spPr>
          <a:xfrm>
            <a:off x="1835280" y="3213000"/>
            <a:ext cx="5257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2425680" y="49320"/>
            <a:ext cx="6778800" cy="1498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79280" y="1230480"/>
            <a:ext cx="288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Humans – industry, transport and domestic farm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Particulates: carbon, dust and metals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Gaseous: carbon dioxide, smog, unburnt hydrocarbons, etc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Trebuchet MS"/>
              </a:rPr>
              <a:t>Can be natural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Chief source is volcanic activ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Wildfir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1800" indent="-18036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Trebuchet MS"/>
              </a:rPr>
              <a:t>Lightn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5" descr="http://www.nature.nps.gov/air/aqbasics/images/types_of_sources_02-2012.jpg"/>
          <p:cNvPicPr/>
          <p:nvPr/>
        </p:nvPicPr>
        <p:blipFill>
          <a:blip r:embed="rId2"/>
          <a:stretch/>
        </p:blipFill>
        <p:spPr>
          <a:xfrm>
            <a:off x="3059280" y="1484280"/>
            <a:ext cx="587844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AutoShape 2" descr=""/>
          <p:cNvPicPr/>
          <p:nvPr/>
        </p:nvPicPr>
        <p:blipFill>
          <a:blip r:embed="rId1"/>
          <a:stretch/>
        </p:blipFill>
        <p:spPr>
          <a:xfrm>
            <a:off x="139680" y="122400"/>
            <a:ext cx="8693280" cy="12189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316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llotrope of oxy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Formed naturall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Oxygen molecule split by UV radi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Unstable Oxygen atom form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Trebuchet MS"/>
              </a:rPr>
              <a:t>Atom joins with molecule to form ozo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36" name="Object 5"/>
          <p:cNvGraphicFramePr/>
          <p:nvPr/>
        </p:nvGraphicFramePr>
        <p:xfrm>
          <a:off x="4788000" y="4992840"/>
          <a:ext cx="3600360" cy="13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4992840"/>
                    <a:ext cx="360036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8" name="Picture 9" descr="Ozone Cycle"/>
          <p:cNvPicPr/>
          <p:nvPr/>
        </p:nvPicPr>
        <p:blipFill>
          <a:blip r:embed="rId4"/>
          <a:stretch/>
        </p:blipFill>
        <p:spPr>
          <a:xfrm>
            <a:off x="3635280" y="1341360"/>
            <a:ext cx="501012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3" descr=""/>
          <p:cNvPicPr/>
          <p:nvPr/>
        </p:nvPicPr>
        <p:blipFill>
          <a:blip r:embed="rId1"/>
          <a:stretch/>
        </p:blipFill>
        <p:spPr>
          <a:xfrm>
            <a:off x="1762200" y="4572000"/>
            <a:ext cx="6791400" cy="1547640"/>
          </a:xfrm>
          <a:prstGeom prst="rect">
            <a:avLst/>
          </a:prstGeom>
          <a:ln w="0">
            <a:noFill/>
          </a:ln>
        </p:spPr>
      </p:pic>
      <p:pic>
        <p:nvPicPr>
          <p:cNvPr id="340" name="Text Placeholder 4" descr=""/>
          <p:cNvPicPr/>
          <p:nvPr/>
        </p:nvPicPr>
        <p:blipFill>
          <a:blip r:embed="rId2"/>
          <a:stretch/>
        </p:blipFill>
        <p:spPr>
          <a:xfrm>
            <a:off x="1090440" y="706320"/>
            <a:ext cx="3457800" cy="1397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155600" y="1400040"/>
            <a:ext cx="3348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for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2" name="Text Placeholder 6" descr=""/>
          <p:cNvPicPr/>
          <p:nvPr/>
        </p:nvPicPr>
        <p:blipFill>
          <a:blip r:embed="rId3"/>
          <a:stretch/>
        </p:blipFill>
        <p:spPr>
          <a:xfrm>
            <a:off x="4591080" y="706320"/>
            <a:ext cx="3456000" cy="1397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645080" y="1398600"/>
            <a:ext cx="3346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riatomic molecule 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tains double covalent bond + coordinate bo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s @ RT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ethal to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1981080" y="3975120"/>
            <a:ext cx="6954840" cy="2176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899640" y="731880"/>
            <a:ext cx="7201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404040"/>
                </a:solidFill>
                <a:latin typeface="Trebuchet MS"/>
              </a:rPr>
              <a:t>This is another name for the unstable oxygen at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ntains </a:t>
            </a:r>
            <a:r>
              <a:rPr b="1" lang="en-US" sz="2200" spc="-1" strike="noStrike">
                <a:solidFill>
                  <a:srgbClr val="4e67c8"/>
                </a:solidFill>
                <a:latin typeface="Trebuchet MS"/>
              </a:rPr>
              <a:t>unpaired electron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in its valence shell of electron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s is an extremely unstable configuration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dicals quickly react with other molecules or radicals to achieve the stable configuration of 4 pairs of electrons in their valence shel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6" name="Picture 5" descr="http://www.bobbyshealthyshop.co.uk/oxygen-atom.jpg"/>
          <p:cNvPicPr/>
          <p:nvPr/>
        </p:nvPicPr>
        <p:blipFill>
          <a:blip r:embed="rId2"/>
          <a:stretch/>
        </p:blipFill>
        <p:spPr>
          <a:xfrm>
            <a:off x="684360" y="364500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3:56:59Z</dcterms:created>
  <dc:creator>Admin</dc:creator>
  <dc:description/>
  <dc:language>en-US</dc:language>
  <cp:lastModifiedBy>Robert Slider</cp:lastModifiedBy>
  <dcterms:modified xsi:type="dcterms:W3CDTF">2013-05-31T03:38:22Z</dcterms:modified>
  <cp:revision>37</cp:revision>
  <dc:subject/>
  <dc:title>Atmosphere</dc:title>
</cp:coreProperties>
</file>