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5.wmf" ContentType="image/x-wmf"/>
  <Override PartName="/ppt/media/image46.jpeg" ContentType="image/jpeg"/>
  <Override PartName="/ppt/media/image54.png" ContentType="image/png"/>
  <Override PartName="/ppt/media/image49.png" ContentType="image/png"/>
  <Override PartName="/ppt/media/image51.png" ContentType="image/png"/>
  <Override PartName="/ppt/media/image34.wmf" ContentType="image/x-wmf"/>
  <Override PartName="/ppt/media/image50.png" ContentType="image/png"/>
  <Override PartName="/ppt/media/image13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C19-6337-402B-96EA-27C135C3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A25-92A6-4F81-9B21-CF848A2A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7A3-1D64-4CA7-BD62-CFA3F367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FB1-2D30-4F4E-B723-96695F34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D29C-C1ED-415D-8E48-B804010F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39DC-5F48-41B0-B07D-FA9A92B3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E466-E1F1-414A-816B-C18F75B1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CB83-1F58-4C43-BE9E-6891C345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01B6-4D1F-4ED5-8FB3-97DDF541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D1A8-09B7-4E4F-8ABA-CD23A756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AC64-F375-4E54-BEEC-0E6B981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E4A-8921-4093-842C-F652403E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2AFB-D119-42C6-8335-CC2F5234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43A2-0863-483A-B7EF-F24EEE1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DE8D-F500-407D-8EC6-57C3F58D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68AE-F83E-40F0-A7E0-5882A26E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7006-6624-4B04-9784-C635B7E3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84A6-C1CA-420B-8F4D-59F3CA2B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E002-C0F0-4BD2-8E2D-EF5CA5E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8C7A-1E59-4FFA-9126-6A283053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76B4-B56B-448A-B573-B37CC68F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5756-040F-4E66-8DDC-9B884BCC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BED-5DD8-47ED-BAD2-F35B4D8E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EA17-87B3-48FB-940C-D0EBA416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6AA5-B71B-45D2-9557-0392932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190F-3801-4F9F-84EA-352AB62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CB01-7C31-434D-8E33-D78B721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DEF2-D913-49A6-A87C-B26AF407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C80F-24A7-4271-8EB9-C673245D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A327-52AB-40DA-ADA0-6751500E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F581-3D5B-4183-8B1D-2FC03951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DE35-FEBC-4907-BB12-1ADC0F6B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A3B0-D64E-43F2-B78C-BBE0FA1A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6FE-777E-42F3-A640-E22E4538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2C25F-E3F2-4ED5-9CD5-AAE75624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2314-1721-4B0C-9577-99A7B20A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22E7-AD7D-4D3A-97F8-782E91A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AC8D-1866-4C73-915A-4166FCE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507A-2BA0-491C-81C0-9CC3851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F880A-9C80-4495-AEC0-528EB91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14F7-FAC9-496C-8872-CB1AAAF5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827B1-5AD7-4F05-AFC4-AAF72302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08AC7-D8B2-492A-9943-08F2D15F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378CF-CB9B-484A-A601-1C59D909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402-377F-4714-B863-EFB7929D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86D4C-7C43-414D-9B74-0E8FA0FE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565F7-10B5-4899-BA45-60FAE81F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0656-E7C8-4A11-84D6-2EC929D9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FF88-466A-488A-B9F2-795FDB94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28B5-F52B-4CE2-9069-FA95A76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76280-803A-4805-97F9-406BBC35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0C39-168D-494B-B0B8-DBC13CDE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7B98-D232-494C-850F-368AE06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19648-7D55-4E24-9B3B-E556EED3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60577-4F2E-45D4-A33D-DF682137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BB8-32F6-42DE-BC13-C9B3B109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E042-6549-4C54-9106-420916B5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0AFED-403B-4079-AF33-842402D4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C95E0-1D8C-4C74-B4C3-57B8139D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FB94A-7CB1-4387-B6AC-5D294B48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AC97E-C54D-4B7F-AE97-D73206F5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18DD0-6183-480E-A9FF-5810F683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24040-87D4-4D4F-B9E3-34F72C4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A9634-22B7-4412-95BC-4E7FB8C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53902-E09E-4204-9C9A-0ADFD48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4E61-757F-478D-94E7-E079A70C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97E-6B40-4565-ADE0-771AD4B3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0DFD0-D483-4EED-880C-35BA2964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6FCE9-5516-4176-AC39-3F647FAD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44254-75E5-4DC9-9905-E332A32B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DE9-1AF9-41F7-A462-0D6B5AEA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E74-1F8A-43DE-B363-1042FE6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F6F0-9B3B-45F4-8E69-D3C7BFF67BD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8F9D-3134-4270-98E0-F9BC032E608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FA3-BB80-420E-A89E-8027FE7DBFC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8623-5CBB-4D23-8ECF-3249C9CAFA9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9CBB-5E33-4BF0-8377-15362F7B89D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D2EC-4A2F-4E0A-ACCA-8BAB8A07645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Year 12 HSC Chemis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585720" y="2786040"/>
            <a:ext cx="7405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utoShape 2" descr=""/>
          <p:cNvPicPr/>
          <p:nvPr/>
        </p:nvPicPr>
        <p:blipFill>
          <a:blip r:embed="rId1"/>
          <a:stretch/>
        </p:blipFill>
        <p:spPr>
          <a:xfrm>
            <a:off x="2054160" y="3638520"/>
            <a:ext cx="6950160" cy="2182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143000" y="731880"/>
            <a:ext cx="6400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 special covalent bond form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is called a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co-ordinate covalent b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ne of the oxygen molecule atoms has to share two of its electrons with the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9" name="Picture 5" descr="http://ibchem.com/drop/O3.gif"/>
          <p:cNvPicPr/>
          <p:nvPr/>
        </p:nvPicPr>
        <p:blipFill>
          <a:blip r:embed="rId2"/>
          <a:stretch/>
        </p:blipFill>
        <p:spPr>
          <a:xfrm>
            <a:off x="755640" y="3645000"/>
            <a:ext cx="1895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334800" y="538632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-ordinate bond – both e- come from one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Straight Arrow Connector 3" descr=""/>
          <p:cNvPicPr/>
          <p:nvPr/>
        </p:nvPicPr>
        <p:blipFill>
          <a:blip r:embed="rId3"/>
          <a:stretch/>
        </p:blipFill>
        <p:spPr>
          <a:xfrm>
            <a:off x="841320" y="4432320"/>
            <a:ext cx="116352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AutoShape 2" descr=""/>
          <p:cNvPicPr/>
          <p:nvPr/>
        </p:nvPicPr>
        <p:blipFill>
          <a:blip r:embed="rId1"/>
          <a:stretch/>
        </p:blipFill>
        <p:spPr>
          <a:xfrm>
            <a:off x="828720" y="-103320"/>
            <a:ext cx="8364600" cy="21812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156000" y="1773360"/>
            <a:ext cx="2592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zone is readily split apart to form oxygen molecu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 natural process occurring in the atmosphe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3397320" y="4935600"/>
          <a:ext cx="257472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7320" y="4935600"/>
                    <a:ext cx="2574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Picture 13" descr="http://www.ozonedepletion.info/education/part1/fig5.gif"/>
          <p:cNvPicPr/>
          <p:nvPr/>
        </p:nvPicPr>
        <p:blipFill>
          <a:blip r:embed="rId4"/>
          <a:stretch/>
        </p:blipFill>
        <p:spPr>
          <a:xfrm>
            <a:off x="210960" y="1125360"/>
            <a:ext cx="58993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AutoShape 2" descr=""/>
          <p:cNvPicPr/>
          <p:nvPr/>
        </p:nvPicPr>
        <p:blipFill>
          <a:blip r:embed="rId1"/>
          <a:stretch/>
        </p:blipFill>
        <p:spPr>
          <a:xfrm>
            <a:off x="682560" y="658800"/>
            <a:ext cx="5327640" cy="2181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23640" y="2637000"/>
            <a:ext cx="6877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CFC = chloro fluoro carb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FCs were developed in the early 1930s and are used in a variety of industrial, commercial, and household applic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as coolants for commercial and home refrigeration units, aerosol propellants, electronic cleaning solvents, and blowing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Picture 5" descr="http://www.soest.hawaii.edu/mguidry/Unnamed_Site_2/Chapter%202/Figures/cfcmolecules.jpg"/>
          <p:cNvPicPr/>
          <p:nvPr/>
        </p:nvPicPr>
        <p:blipFill>
          <a:blip r:embed="rId2"/>
          <a:stretch/>
        </p:blipFill>
        <p:spPr>
          <a:xfrm>
            <a:off x="6227640" y="981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static.ddmcdn.com/gif/ozone-layer-2.jpg"/>
          <p:cNvPicPr/>
          <p:nvPr/>
        </p:nvPicPr>
        <p:blipFill>
          <a:blip r:embed="rId3"/>
          <a:stretch/>
        </p:blipFill>
        <p:spPr>
          <a:xfrm>
            <a:off x="6804000" y="4890960"/>
            <a:ext cx="2232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900000" y="54936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re compounds of bromine, fluorine and carbon (</a:t>
            </a:r>
            <a:r>
              <a:rPr b="0" i="1" lang="en-AU" sz="2200" spc="-1" strike="noStrike">
                <a:solidFill>
                  <a:srgbClr val="404040"/>
                </a:solidFill>
                <a:latin typeface="Trebuchet MS"/>
              </a:rPr>
              <a:t>although, fluorine compounds are not to blame for ozone depletion</a:t>
            </a: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alons are used as fire extinguishing agents, both in built-in systems and in handheld portable fire extinguisher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3" name="Picture 5" descr="http://www.risco.com.br/NL/MOL/14/Halon-1301-3D.jpg"/>
          <p:cNvPicPr/>
          <p:nvPr/>
        </p:nvPicPr>
        <p:blipFill>
          <a:blip r:embed="rId2"/>
          <a:stretch/>
        </p:blipFill>
        <p:spPr>
          <a:xfrm>
            <a:off x="395280" y="3713040"/>
            <a:ext cx="2448000" cy="2733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fm200.biz/danni_halons_3.gif"/>
          <p:cNvPicPr/>
          <p:nvPr/>
        </p:nvPicPr>
        <p:blipFill>
          <a:blip r:embed="rId3"/>
          <a:stretch/>
        </p:blipFill>
        <p:spPr>
          <a:xfrm>
            <a:off x="6948360" y="1197000"/>
            <a:ext cx="20289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973 chlorine was found to be a catalytic agent in ozone destructio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essentially cleaves the ozone to produce oxygen molecules –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see next sl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7" name="Picture 5" descr="http://blogs.mcgill.ca/oss/files/2013/05/CFC.gif"/>
          <p:cNvPicPr/>
          <p:nvPr/>
        </p:nvPicPr>
        <p:blipFill>
          <a:blip r:embed="rId2"/>
          <a:stretch/>
        </p:blipFill>
        <p:spPr>
          <a:xfrm>
            <a:off x="611280" y="3500280"/>
            <a:ext cx="2857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6"/>
          <p:cNvGraphicFramePr/>
          <p:nvPr/>
        </p:nvGraphicFramePr>
        <p:xfrm>
          <a:off x="5292720" y="3068640"/>
          <a:ext cx="4087800" cy="21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3068640"/>
                    <a:ext cx="40878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Picture 7" descr="http://www.theozonehole.com/images/cfc.jpg"/>
          <p:cNvPicPr/>
          <p:nvPr/>
        </p:nvPicPr>
        <p:blipFill>
          <a:blip r:embed="rId4"/>
          <a:stretch/>
        </p:blipFill>
        <p:spPr>
          <a:xfrm>
            <a:off x="0" y="1916280"/>
            <a:ext cx="5022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AutoShape 2" descr=""/>
          <p:cNvPicPr/>
          <p:nvPr/>
        </p:nvPicPr>
        <p:blipFill>
          <a:blip r:embed="rId1"/>
          <a:stretch/>
        </p:blipFill>
        <p:spPr>
          <a:xfrm>
            <a:off x="-139680" y="469800"/>
            <a:ext cx="4046400" cy="1498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61092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Human activity pu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chlorides and bromide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to the atm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Cold conditions are present in the Polar Regions that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allow the accumulation of the CFC’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Sunligh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reaks down the CFC’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breakdown produc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destroy ozo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ozone is broken into oxygen molecul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Reduced ozone prote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 the strat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401840" y="4218120"/>
            <a:ext cx="7169040" cy="150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CFC problem may be hard to solve because there are already great quantities of CFCs in the environment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FCs would remain in the stratosphere for another 100 years even if none were ever produced agai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 the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Montreal Protoc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30 nations worldwide agreed to reduce usage of CFCs and encouraged other countries to do so as well (see next slide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utoShape 2" descr=""/>
          <p:cNvPicPr/>
          <p:nvPr/>
        </p:nvPicPr>
        <p:blipFill>
          <a:blip r:embed="rId1"/>
          <a:stretch/>
        </p:blipFill>
        <p:spPr>
          <a:xfrm>
            <a:off x="2054160" y="4359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55640" y="54936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Montreal Protocol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was a convention signed in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198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y many countries to greatly reduce the production and use of CFCs which prevent further damage to the ozone lay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Since 1987, further amendments to the protocol have imposed and even greater restrictions on the production and use of potentially damaging compound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69800" y="469800"/>
            <a:ext cx="8485200" cy="1498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50560" y="2369880"/>
            <a:ext cx="2305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ce 1987, measurements of Cl compound in the atmosphere have shown a decl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s graph shows the projections with and without the measures for the reduction of these compoun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0" name="Picture 2" descr="http://www.environment.gov.au/atmosphere/ozone/legislation/images/montreal-effective-chlorine.gif"/>
          <p:cNvPicPr/>
          <p:nvPr/>
        </p:nvPicPr>
        <p:blipFill>
          <a:blip r:embed="rId2"/>
          <a:stretch/>
        </p:blipFill>
        <p:spPr>
          <a:xfrm>
            <a:off x="2556000" y="1916280"/>
            <a:ext cx="6352920" cy="455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utoShape 2" descr=""/>
          <p:cNvPicPr/>
          <p:nvPr/>
        </p:nvPicPr>
        <p:blipFill>
          <a:blip r:embed="rId1"/>
          <a:stretch/>
        </p:blipFill>
        <p:spPr>
          <a:xfrm>
            <a:off x="109440" y="-30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100120" y="1916280"/>
            <a:ext cx="407844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s fixed – i.e. closed system for matter, but not energy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Has many function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Protection from cosmic ray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Keeping us wa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Maintaining our supply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0" name="Picture 5" descr="http://hdwpapers.com/walls/earth_atmosphere_wallpapers-normal.jpg"/>
          <p:cNvPicPr/>
          <p:nvPr/>
        </p:nvPicPr>
        <p:blipFill>
          <a:blip r:embed="rId2"/>
          <a:stretch/>
        </p:blipFill>
        <p:spPr>
          <a:xfrm>
            <a:off x="324000" y="155736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1953720"/>
            <a:ext cx="34560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Ground based metho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Weather balloon-borne instrum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atellite dat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Total Ozone mapping Spectrometer (TOMS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olar Backscatter UV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68000" y="691920"/>
            <a:ext cx="5398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191d34"/>
                </a:solidFill>
                <a:latin typeface="Arial"/>
                <a:ea typeface="Arial"/>
              </a:rPr>
              <a:t>Monitoring Ozone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www.iup.uni-bremen.de/gome/GOME_10y_logo.gif"/>
          <p:cNvPicPr/>
          <p:nvPr/>
        </p:nvPicPr>
        <p:blipFill>
          <a:blip r:embed="rId1"/>
          <a:stretch/>
        </p:blipFill>
        <p:spPr>
          <a:xfrm>
            <a:off x="5143680" y="1571760"/>
            <a:ext cx="2193840" cy="217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news.spirithit.com/images/uploads/environment_378/10.12.04_satellite_378.jpg"/>
          <p:cNvPicPr/>
          <p:nvPr/>
        </p:nvPicPr>
        <p:blipFill>
          <a:blip r:embed="rId2"/>
          <a:stretch/>
        </p:blipFill>
        <p:spPr>
          <a:xfrm>
            <a:off x="4932360" y="4149720"/>
            <a:ext cx="3029040" cy="21877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"/>
          <p:cNvSpPr/>
          <p:nvPr/>
        </p:nvSpPr>
        <p:spPr>
          <a:xfrm>
            <a:off x="7524720" y="2205000"/>
            <a:ext cx="11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ME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ito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Small steps are being taken to reduce CFCs including the use of alternate propellants i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Refrigeration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Air conditioning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Propellants for spray ca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Using pump action instead of gas propell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AutoShape 2" descr=""/>
          <p:cNvPicPr/>
          <p:nvPr/>
        </p:nvPicPr>
        <p:blipFill>
          <a:blip r:embed="rId1"/>
          <a:stretch/>
        </p:blipFill>
        <p:spPr>
          <a:xfrm>
            <a:off x="901800" y="401760"/>
            <a:ext cx="6956280" cy="2176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95280" y="2276640"/>
            <a:ext cx="619272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You bet! In place of CFCs and Halons we now us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wo main CFC replacements have been developed. They are called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alkanes (HFAs)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or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carbons (HFCs),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and contain only carbon, hydrogen and fluorine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y are non-flammable and chlorine-free, so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they have no impact on the stratospheric ozone layer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 downside – these compounds are believed to be significant </a:t>
            </a:r>
            <a:r>
              <a:rPr b="0" lang="en-US" sz="1700" spc="-1" strike="noStrike">
                <a:solidFill>
                  <a:srgbClr val="ff0000"/>
                </a:solidFill>
                <a:latin typeface="Trebuchet MS"/>
              </a:rPr>
              <a:t>greenhouse gas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0" name="Picture 5" descr="http://meteolcd.files.wordpress.com/2010/12/hfc23_molecule.jpg"/>
          <p:cNvPicPr/>
          <p:nvPr/>
        </p:nvPicPr>
        <p:blipFill>
          <a:blip r:embed="rId2"/>
          <a:stretch/>
        </p:blipFill>
        <p:spPr>
          <a:xfrm>
            <a:off x="6659640" y="3284640"/>
            <a:ext cx="23619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2205000"/>
            <a:ext cx="41655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ydrocarbons</a:t>
            </a:r>
            <a:r>
              <a:rPr b="0" lang="en-US" sz="2400" spc="-1" strike="noStrike">
                <a:solidFill>
                  <a:srgbClr val="4e67c8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ch a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pent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hex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have been put forth as replacements for coolant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Nitrogen ga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(inert) can be used as a blowing agent for substances like styrofo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6300720" y="2565360"/>
          <a:ext cx="1355760" cy="32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2565360"/>
                    <a:ext cx="13557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55280" y="2080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a very thin layer of g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small compared to Earth itsel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3" name="Picture 7" descr="layers"/>
          <p:cNvPicPr/>
          <p:nvPr/>
        </p:nvPicPr>
        <p:blipFill>
          <a:blip r:embed="rId2"/>
          <a:stretch/>
        </p:blipFill>
        <p:spPr>
          <a:xfrm>
            <a:off x="4759200" y="2205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4" descr=""/>
          <p:cNvPicPr/>
          <p:nvPr/>
        </p:nvPicPr>
        <p:blipFill>
          <a:blip r:embed="rId1"/>
          <a:stretch/>
        </p:blipFill>
        <p:spPr>
          <a:xfrm>
            <a:off x="1554120" y="615960"/>
            <a:ext cx="7059600" cy="149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atmosphere"/>
          <p:cNvPicPr/>
          <p:nvPr/>
        </p:nvPicPr>
        <p:blipFill>
          <a:blip r:embed="rId2"/>
          <a:stretch/>
        </p:blipFill>
        <p:spPr>
          <a:xfrm>
            <a:off x="1403280" y="1989000"/>
            <a:ext cx="64612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ext Placeholder 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3346560" cy="7808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684000" y="907920"/>
            <a:ext cx="3778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The lowest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lif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wea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pollution – mainly from human impa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planes f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Text Placeholder 3" descr=""/>
          <p:cNvPicPr/>
          <p:nvPr/>
        </p:nvPicPr>
        <p:blipFill>
          <a:blip r:embed="rId2"/>
          <a:stretch/>
        </p:blipFill>
        <p:spPr>
          <a:xfrm>
            <a:off x="4211640" y="262080"/>
            <a:ext cx="3348000" cy="780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642920" y="907920"/>
            <a:ext cx="374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the ozone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the Concorde once fle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reenhouse gases 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lobal warming origina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0" name="Picture 5" descr="https://spark.ucar.edu/sites/default/files/images/large_image_for_image_content/troposphere_diagram_big.jpg"/>
          <p:cNvPicPr/>
          <p:nvPr/>
        </p:nvPicPr>
        <p:blipFill>
          <a:blip r:embed="rId3"/>
          <a:stretch/>
        </p:blipFill>
        <p:spPr>
          <a:xfrm>
            <a:off x="1835280" y="3213000"/>
            <a:ext cx="5257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2425680" y="49320"/>
            <a:ext cx="6778800" cy="1498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79280" y="1230480"/>
            <a:ext cx="288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Humans – industry, transport and domestic farm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Particulates: carbon, dust and metals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Gaseous: carbon dioxide, smog, unburnt hydrocarbons, etc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Can be natural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Chief source is volcanic activ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Wildfir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Lightn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5" descr="http://www.nature.nps.gov/air/aqbasics/images/types_of_sources_02-2012.jpg"/>
          <p:cNvPicPr/>
          <p:nvPr/>
        </p:nvPicPr>
        <p:blipFill>
          <a:blip r:embed="rId2"/>
          <a:stretch/>
        </p:blipFill>
        <p:spPr>
          <a:xfrm>
            <a:off x="3059280" y="1484280"/>
            <a:ext cx="587844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AutoShape 2" descr=""/>
          <p:cNvPicPr/>
          <p:nvPr/>
        </p:nvPicPr>
        <p:blipFill>
          <a:blip r:embed="rId1"/>
          <a:stretch/>
        </p:blipFill>
        <p:spPr>
          <a:xfrm>
            <a:off x="139680" y="122400"/>
            <a:ext cx="8693280" cy="12189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316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llotrope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Formed natural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Oxygen molecule split by UV radi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Unstable Oxygen atom form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tom joins with molecule to form ozo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36" name="Object 5"/>
          <p:cNvGraphicFramePr/>
          <p:nvPr/>
        </p:nvGraphicFramePr>
        <p:xfrm>
          <a:off x="4788000" y="4992840"/>
          <a:ext cx="360036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4992840"/>
                    <a:ext cx="36003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8" name="Picture 9" descr="Ozone Cycle"/>
          <p:cNvPicPr/>
          <p:nvPr/>
        </p:nvPicPr>
        <p:blipFill>
          <a:blip r:embed="rId4"/>
          <a:stretch/>
        </p:blipFill>
        <p:spPr>
          <a:xfrm>
            <a:off x="3635280" y="1341360"/>
            <a:ext cx="501012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3" descr=""/>
          <p:cNvPicPr/>
          <p:nvPr/>
        </p:nvPicPr>
        <p:blipFill>
          <a:blip r:embed="rId1"/>
          <a:stretch/>
        </p:blipFill>
        <p:spPr>
          <a:xfrm>
            <a:off x="1762200" y="4572000"/>
            <a:ext cx="6791400" cy="1547640"/>
          </a:xfrm>
          <a:prstGeom prst="rect">
            <a:avLst/>
          </a:prstGeom>
          <a:ln w="0">
            <a:noFill/>
          </a:ln>
        </p:spPr>
      </p:pic>
      <p:pic>
        <p:nvPicPr>
          <p:cNvPr id="340" name="Text Placeholder 4" descr=""/>
          <p:cNvPicPr/>
          <p:nvPr/>
        </p:nvPicPr>
        <p:blipFill>
          <a:blip r:embed="rId2"/>
          <a:stretch/>
        </p:blipFill>
        <p:spPr>
          <a:xfrm>
            <a:off x="1090440" y="706320"/>
            <a:ext cx="3457800" cy="1397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155600" y="1400040"/>
            <a:ext cx="3348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for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2" name="Text Placeholder 6" descr=""/>
          <p:cNvPicPr/>
          <p:nvPr/>
        </p:nvPicPr>
        <p:blipFill>
          <a:blip r:embed="rId3"/>
          <a:stretch/>
        </p:blipFill>
        <p:spPr>
          <a:xfrm>
            <a:off x="4591080" y="706320"/>
            <a:ext cx="3456000" cy="1397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645080" y="1398600"/>
            <a:ext cx="3346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r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 + coordinate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ethal to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1981080" y="3975120"/>
            <a:ext cx="6954840" cy="2176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899640" y="731880"/>
            <a:ext cx="7201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nother name for the unstable oxygen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ntains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unpaired electron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in its valence shell of electron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s is an extremely unstable configuration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dicals quickly react with other molecules or radicals to achieve the stable configuration of 4 pairs of electrons in their valence shel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6" name="Picture 5" descr="http://www.bobbyshealthyshop.co.uk/oxygen-atom.jpg"/>
          <p:cNvPicPr/>
          <p:nvPr/>
        </p:nvPicPr>
        <p:blipFill>
          <a:blip r:embed="rId2"/>
          <a:stretch/>
        </p:blipFill>
        <p:spPr>
          <a:xfrm>
            <a:off x="684360" y="364500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3:56:59Z</dcterms:created>
  <dc:creator>Admin</dc:creator>
  <dc:description/>
  <dc:language>en-US</dc:language>
  <cp:lastModifiedBy>Robert Slider</cp:lastModifiedBy>
  <dcterms:modified xsi:type="dcterms:W3CDTF">2013-05-31T03:38:22Z</dcterms:modified>
  <cp:revision>37</cp:revision>
  <dc:subject/>
  <dc:title>Atmosphere</dc:title>
</cp:coreProperties>
</file>