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png" ContentType="image/png"/>
  <Override PartName="/ppt/media/image24.jpeg" ContentType="image/jpeg"/>
  <Override PartName="/ppt/media/image21.jpeg" ContentType="image/jpeg"/>
  <Override PartName="/ppt/media/image20.png" ContentType="image/png"/>
  <Override PartName="/ppt/media/image57.png" ContentType="image/png"/>
  <Override PartName="/ppt/media/image18.png" ContentType="image/png"/>
  <Override PartName="/ppt/media/image5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27.png" ContentType="image/png"/>
  <Override PartName="/ppt/media/image45.wmf" ContentType="image/x-wmf"/>
  <Override PartName="/ppt/media/image46.jpeg" ContentType="image/jpeg"/>
  <Override PartName="/ppt/media/image54.png" ContentType="image/png"/>
  <Override PartName="/ppt/media/image49.png" ContentType="image/png"/>
  <Override PartName="/ppt/media/image51.png" ContentType="image/png"/>
  <Override PartName="/ppt/media/image34.wmf" ContentType="image/x-wmf"/>
  <Override PartName="/ppt/media/image50.png" ContentType="image/png"/>
  <Override PartName="/ppt/media/image13.png" ContentType="image/png"/>
  <Override PartName="/ppt/media/image52.png" ContentType="image/png"/>
  <Override PartName="/ppt/media/image41.png" ContentType="image/png"/>
  <Override PartName="/ppt/media/image53.jpeg" ContentType="image/jpeg"/>
  <Override PartName="/ppt/media/image43.png" ContentType="image/png"/>
  <Override PartName="/ppt/media/image42.png" ContentType="image/png"/>
  <Override PartName="/ppt/media/image55.png" ContentType="image/png"/>
  <Override PartName="/ppt/media/image44.png" ContentType="image/png"/>
  <Override PartName="/ppt/media/image40.jpeg" ContentType="image/jpeg"/>
  <Override PartName="/ppt/media/image39.png" ContentType="image/png"/>
  <Override PartName="/ppt/media/image9.png" ContentType="image/png"/>
  <Override PartName="/ppt/media/image31.png" ContentType="image/png"/>
  <Override PartName="/ppt/media/image37.jpeg" ContentType="image/jpeg"/>
  <Override PartName="/ppt/media/image30.png" ContentType="image/png"/>
  <Override PartName="/ppt/media/image8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9342-8925-431E-8D9D-457FCD79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E304-0C89-4F3D-8B82-22184AED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18E2-DAE1-4FA6-A0A5-287339BE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5ED9-0F6B-441E-B91C-C9013C8E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5B9E-31F7-48FA-8B0E-F41100E0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DC11-363D-4E8C-86A2-608C228A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5BAC-5EF5-4FD9-9A1B-61A44B7E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F32E-89CA-4F92-B6F8-0F2AAE7B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3DAC-0958-41DE-ABB8-83AE259C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02F7-41A5-4479-967F-A8A3A9B6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05F1-A1E7-4CF2-A850-6695F3A6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280A-4314-42AE-B081-9B091C48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4991-B92A-4C54-B690-D5F539E6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86A2-AA6E-4458-A114-070DE8DA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E189-5426-4FC0-94AC-B6CC589D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0C89-E54A-4F16-9B6A-B5638E64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2FB8-F7AD-4FFE-B6D5-D5EAC1EC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269AB-BAFB-4A23-80C5-F66329DD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FE679-BFD9-4810-B35A-9620E476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CA181-8822-455D-AAA3-174684C9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B47FB-9507-4952-97B5-92748D91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DA1D2-D496-4CE8-A41B-BA51FC9F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AE01-4DD7-425C-9348-058212AB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5445B-CD13-43D8-B38F-312C7744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3F968-9A4E-4523-8122-4E2493E1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CC500-BD01-4927-AD06-001C1A69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BB665-144E-44D0-8652-D519DB1F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E1FAA-3758-4C3B-BDA2-A8FC8CD1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68666-99DA-48A8-A4BB-48DF3DFB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FF1A6-BDFD-4CC5-BFE9-78D23640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88C3A-3ED6-4308-802C-06C28EF2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97988-8B96-4433-A59C-B05D8633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4F962-79E3-4545-A268-32DA9E6E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5853-8474-4E86-AE27-3AD5B626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4A870-1246-467D-9DE8-CEDC59ED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501C5-ED55-4786-BCBA-22D2E2CA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D68BA-64A5-4EC6-BB24-B54973E5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A2F86-7F58-47F2-B90A-B9AE6676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E0604-0A0E-47BC-A97D-21F17231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35BED-0DFD-45DA-A731-BAD65D03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259DE-76EB-40E8-8775-7D1092C9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1BBBD-ECAB-409A-AC47-A992A2AF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91B89-41E1-4BAB-9194-25ADEC86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50BC5-71E6-4A04-9808-B02EED3A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86DD-5964-476E-A40C-DA4113A7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5424F-1AF0-428E-83E4-DA581766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FEAA6-CDFF-4BA9-BF6E-53B29E27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BAC5C-02D0-47D2-81ED-6738452B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12AA2-3E7F-41B1-99CF-7EA2C911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98B4D-BCBD-4639-A5FC-0244BC9D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7F146-12FC-4E6A-AA98-9199F1E6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DE117-AD6C-4AD8-B9F7-F59A1248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5BEBB-28F4-45C9-BC08-AD3CB74C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8A490-5655-4DDD-B502-3B0BBF0D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6FBCA-1CF7-428D-8CA7-3EB5B5D1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2AF2-7DA9-4B4E-8F2E-A40098DE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BAD70-5B67-4BCF-BB93-B055E44E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6F642-D6E9-49B1-82D6-0E8FB1F7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E0F5A-3184-4403-9E7A-7CBD092E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6BEEE-D432-4628-9F36-B202CDE6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20490-154C-4154-A6B2-5E241591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571A7-B31B-4671-937E-DB3CEFBB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A75CC-1DE0-46F4-AAA3-2C4FA898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BED58-ECC4-4B29-87A9-2F8EBA62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EDFDF-9CB1-4630-A406-58B4A0D2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7ED1E-37AC-471F-8828-614F6681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BD01-046E-44DD-89E1-54780359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8334B-621A-4B37-9271-74FE5BAD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3CBDD-39C9-48D5-844B-A8EAC766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24144-1C05-4D30-83F4-8A3F5521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CA21-AB39-4D7B-8021-6DBBBBBC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3336-D251-4E0E-9AE1-6732B433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72AD-86F9-4AE7-BAFF-946D78766C0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C7D9-F3ED-400E-B4B9-694F6842109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B9D6-A3CC-401A-9B3B-90033B697326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9AEA-E9B7-4144-97E8-D3ECE3874401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CA19-FE3F-43C5-AD57-105D99C93F14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6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6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5A44-A31F-47C4-8EA6-B660FB438F52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745"/>
                </a:solidFill>
                <a:latin typeface="Trebuchet MS"/>
              </a:rPr>
              <a:t>Year 12 HSC Chemistry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17" name="AutoShape 2" descr=""/>
          <p:cNvPicPr/>
          <p:nvPr/>
        </p:nvPicPr>
        <p:blipFill>
          <a:blip r:embed="rId1"/>
          <a:stretch/>
        </p:blipFill>
        <p:spPr>
          <a:xfrm>
            <a:off x="585720" y="2786040"/>
            <a:ext cx="74059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AutoShape 2" descr=""/>
          <p:cNvPicPr/>
          <p:nvPr/>
        </p:nvPicPr>
        <p:blipFill>
          <a:blip r:embed="rId1"/>
          <a:stretch/>
        </p:blipFill>
        <p:spPr>
          <a:xfrm>
            <a:off x="2054160" y="3638520"/>
            <a:ext cx="6950160" cy="218268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1143000" y="731880"/>
            <a:ext cx="64008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A special covalent bond form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It is called a </a:t>
            </a:r>
            <a:r>
              <a:rPr b="1" lang="en-AU" sz="2200" spc="-1" strike="noStrike">
                <a:solidFill>
                  <a:srgbClr val="4e67c8"/>
                </a:solidFill>
                <a:latin typeface="Trebuchet MS"/>
              </a:rPr>
              <a:t>co-ordinate covalent bon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One of the oxygen molecule atoms has to share two of its electrons with the ato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9" name="Picture 5" descr="http://ibchem.com/drop/O3.gif"/>
          <p:cNvPicPr/>
          <p:nvPr/>
        </p:nvPicPr>
        <p:blipFill>
          <a:blip r:embed="rId2"/>
          <a:stretch/>
        </p:blipFill>
        <p:spPr>
          <a:xfrm>
            <a:off x="755640" y="3645000"/>
            <a:ext cx="1895400" cy="1542960"/>
          </a:xfrm>
          <a:prstGeom prst="rect">
            <a:avLst/>
          </a:prstGeom>
          <a:ln w="0">
            <a:noFill/>
          </a:ln>
        </p:spPr>
      </p:pic>
      <p:sp>
        <p:nvSpPr>
          <p:cNvPr id="350" name="TextBox 1"/>
          <p:cNvSpPr/>
          <p:nvPr/>
        </p:nvSpPr>
        <p:spPr>
          <a:xfrm>
            <a:off x="334800" y="5386320"/>
            <a:ext cx="27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-ordinate bond – both e- come from one a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Straight Arrow Connector 3" descr=""/>
          <p:cNvPicPr/>
          <p:nvPr/>
        </p:nvPicPr>
        <p:blipFill>
          <a:blip r:embed="rId3"/>
          <a:stretch/>
        </p:blipFill>
        <p:spPr>
          <a:xfrm>
            <a:off x="841320" y="4432320"/>
            <a:ext cx="116352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AutoShape 2" descr=""/>
          <p:cNvPicPr/>
          <p:nvPr/>
        </p:nvPicPr>
        <p:blipFill>
          <a:blip r:embed="rId1"/>
          <a:stretch/>
        </p:blipFill>
        <p:spPr>
          <a:xfrm>
            <a:off x="828720" y="-103320"/>
            <a:ext cx="8364600" cy="218124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156000" y="1773360"/>
            <a:ext cx="259236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4560" indent="-17136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Ozone is readily split apart to form oxygen molecule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4560" indent="-17136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This is a natural process occurring in the atmospher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354" name="Object 4"/>
          <p:cNvGraphicFramePr/>
          <p:nvPr/>
        </p:nvGraphicFramePr>
        <p:xfrm>
          <a:off x="3397320" y="4935600"/>
          <a:ext cx="2574720" cy="51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97320" y="4935600"/>
                    <a:ext cx="25747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6" name="Picture 13" descr="http://www.ozonedepletion.info/education/part1/fig5.gif"/>
          <p:cNvPicPr/>
          <p:nvPr/>
        </p:nvPicPr>
        <p:blipFill>
          <a:blip r:embed="rId4"/>
          <a:stretch/>
        </p:blipFill>
        <p:spPr>
          <a:xfrm>
            <a:off x="210960" y="1125360"/>
            <a:ext cx="589932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AutoShape 2" descr=""/>
          <p:cNvPicPr/>
          <p:nvPr/>
        </p:nvPicPr>
        <p:blipFill>
          <a:blip r:embed="rId1"/>
          <a:stretch/>
        </p:blipFill>
        <p:spPr>
          <a:xfrm>
            <a:off x="682560" y="658800"/>
            <a:ext cx="5327640" cy="21812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323640" y="2637000"/>
            <a:ext cx="68770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Trebuchet MS"/>
              </a:rPr>
              <a:t>CFC = chloro fluoro carb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FCs were developed in the early 1930s and are used in a variety of industrial, commercial, and household applica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Used as coolants for commercial and home refrigeration units, aerosol propellants, electronic cleaning solvents, and blowing agen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9" name="Picture 5" descr="http://www.soest.hawaii.edu/mguidry/Unnamed_Site_2/Chapter%202/Figures/cfcmolecules.jpg"/>
          <p:cNvPicPr/>
          <p:nvPr/>
        </p:nvPicPr>
        <p:blipFill>
          <a:blip r:embed="rId2"/>
          <a:stretch/>
        </p:blipFill>
        <p:spPr>
          <a:xfrm>
            <a:off x="6227640" y="98100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http://static.ddmcdn.com/gif/ozone-layer-2.jpg"/>
          <p:cNvPicPr/>
          <p:nvPr/>
        </p:nvPicPr>
        <p:blipFill>
          <a:blip r:embed="rId3"/>
          <a:stretch/>
        </p:blipFill>
        <p:spPr>
          <a:xfrm>
            <a:off x="6804000" y="4890960"/>
            <a:ext cx="2232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AutoShap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954840" cy="21826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900000" y="549360"/>
            <a:ext cx="64008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Are compounds of bromine, fluorine and carbon (</a:t>
            </a:r>
            <a:r>
              <a:rPr b="0" i="1" lang="en-AU" sz="2200" spc="-1" strike="noStrike">
                <a:solidFill>
                  <a:srgbClr val="404040"/>
                </a:solidFill>
                <a:latin typeface="Trebuchet MS"/>
              </a:rPr>
              <a:t>although, fluorine compounds are not to blame for ozone depletion</a:t>
            </a: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halons are used as fire extinguishing agents, both in built-in systems and in handheld portable fire extinguishers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63" name="Picture 5" descr="http://www.risco.com.br/NL/MOL/14/Halon-1301-3D.jpg"/>
          <p:cNvPicPr/>
          <p:nvPr/>
        </p:nvPicPr>
        <p:blipFill>
          <a:blip r:embed="rId2"/>
          <a:stretch/>
        </p:blipFill>
        <p:spPr>
          <a:xfrm>
            <a:off x="395280" y="3713040"/>
            <a:ext cx="2448000" cy="27338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http://www.fm200.biz/danni_halons_3.gif"/>
          <p:cNvPicPr/>
          <p:nvPr/>
        </p:nvPicPr>
        <p:blipFill>
          <a:blip r:embed="rId3"/>
          <a:stretch/>
        </p:blipFill>
        <p:spPr>
          <a:xfrm>
            <a:off x="6948360" y="1197000"/>
            <a:ext cx="20289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AutoShap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778440" cy="15001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In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1973 chlorine was found to be a catalytic agent in ozone destructio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It essentially cleaves the ozone to produce oxygen molecules – </a:t>
            </a:r>
            <a:r>
              <a:rPr b="1" lang="en-AU" sz="2200" spc="-1" strike="noStrike">
                <a:solidFill>
                  <a:srgbClr val="4e67c8"/>
                </a:solidFill>
                <a:latin typeface="Trebuchet MS"/>
              </a:rPr>
              <a:t>see next slid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67" name="Picture 5" descr="http://blogs.mcgill.ca/oss/files/2013/05/CFC.gif"/>
          <p:cNvPicPr/>
          <p:nvPr/>
        </p:nvPicPr>
        <p:blipFill>
          <a:blip r:embed="rId2"/>
          <a:stretch/>
        </p:blipFill>
        <p:spPr>
          <a:xfrm>
            <a:off x="611280" y="3500280"/>
            <a:ext cx="2857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AutoShape 2" descr=""/>
          <p:cNvPicPr/>
          <p:nvPr/>
        </p:nvPicPr>
        <p:blipFill>
          <a:blip r:embed="rId1"/>
          <a:stretch/>
        </p:blipFill>
        <p:spPr>
          <a:xfrm>
            <a:off x="762120" y="469800"/>
            <a:ext cx="8192880" cy="149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Object 6"/>
          <p:cNvGraphicFramePr/>
          <p:nvPr/>
        </p:nvGraphicFramePr>
        <p:xfrm>
          <a:off x="5292720" y="3068640"/>
          <a:ext cx="4087800" cy="211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92720" y="3068640"/>
                    <a:ext cx="4087800" cy="21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1" name="Picture 7" descr="http://www.theozonehole.com/images/cfc.jpg"/>
          <p:cNvPicPr/>
          <p:nvPr/>
        </p:nvPicPr>
        <p:blipFill>
          <a:blip r:embed="rId4"/>
          <a:stretch/>
        </p:blipFill>
        <p:spPr>
          <a:xfrm>
            <a:off x="0" y="1916280"/>
            <a:ext cx="5022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AutoShape 2" descr=""/>
          <p:cNvPicPr/>
          <p:nvPr/>
        </p:nvPicPr>
        <p:blipFill>
          <a:blip r:embed="rId1"/>
          <a:stretch/>
        </p:blipFill>
        <p:spPr>
          <a:xfrm>
            <a:off x="-139680" y="469800"/>
            <a:ext cx="4046400" cy="14986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610920" y="22762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Human activity puts </a:t>
            </a:r>
            <a:r>
              <a:rPr b="1" lang="en-US" sz="2400" spc="-1" strike="noStrike">
                <a:solidFill>
                  <a:srgbClr val="4e67c8"/>
                </a:solidFill>
                <a:latin typeface="Trebuchet MS"/>
                <a:ea typeface="宋体"/>
              </a:rPr>
              <a:t>chlorides and bromide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 into the atmospher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Cold conditions are present in the Polar Regions that </a:t>
            </a:r>
            <a:r>
              <a:rPr b="1" lang="en-US" sz="2400" spc="-1" strike="noStrike">
                <a:solidFill>
                  <a:srgbClr val="4e67c8"/>
                </a:solidFill>
                <a:latin typeface="Trebuchet MS"/>
                <a:ea typeface="宋体"/>
              </a:rPr>
              <a:t>allow the accumulation of the CFC’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67c8"/>
                </a:solidFill>
                <a:latin typeface="Trebuchet MS"/>
                <a:ea typeface="宋体"/>
              </a:rPr>
              <a:t>Sunlight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 breaks down the CFC’s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The breakdown products </a:t>
            </a:r>
            <a:r>
              <a:rPr b="1" lang="en-US" sz="2400" spc="-1" strike="noStrike">
                <a:solidFill>
                  <a:srgbClr val="4e67c8"/>
                </a:solidFill>
                <a:latin typeface="Trebuchet MS"/>
                <a:ea typeface="宋体"/>
              </a:rPr>
              <a:t>destroy ozone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The ozone is broken into oxygen molecule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67c8"/>
                </a:solidFill>
                <a:latin typeface="Trebuchet MS"/>
                <a:ea typeface="宋体"/>
              </a:rPr>
              <a:t>Reduced ozone protection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 in the stratospher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AutoShape 2" descr=""/>
          <p:cNvPicPr/>
          <p:nvPr/>
        </p:nvPicPr>
        <p:blipFill>
          <a:blip r:embed="rId1"/>
          <a:stretch/>
        </p:blipFill>
        <p:spPr>
          <a:xfrm>
            <a:off x="1401840" y="4218120"/>
            <a:ext cx="7169040" cy="15001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CFC problem may be hard to solve because there are already great quantities of CFCs in the environment. 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FCs would remain in the stratosphere for another 100 years even if none were ever produced agai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n the </a:t>
            </a:r>
            <a:r>
              <a:rPr b="1" lang="en-US" sz="2200" spc="-1" strike="noStrike">
                <a:solidFill>
                  <a:srgbClr val="4e67c8"/>
                </a:solidFill>
                <a:latin typeface="Trebuchet MS"/>
              </a:rPr>
              <a:t>Montreal Protocol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, 30 nations worldwide agreed to reduce usage of CFCs and encouraged other countries to do so as well (see next slides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AutoShape 2" descr=""/>
          <p:cNvPicPr/>
          <p:nvPr/>
        </p:nvPicPr>
        <p:blipFill>
          <a:blip r:embed="rId1"/>
          <a:stretch/>
        </p:blipFill>
        <p:spPr>
          <a:xfrm>
            <a:off x="2054160" y="4359240"/>
            <a:ext cx="6778800" cy="14986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755640" y="549360"/>
            <a:ext cx="76932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The 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Montreal Protocol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 was a convention signed in 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1987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 by many countries to greatly reduce the production and use of CFCs which prevent further damage to the ozone layer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Since 1987, further amendments to the protocol have imposed and even greater restrictions on the production and use of potentially damaging compounds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69800" y="469800"/>
            <a:ext cx="8485200" cy="14986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250560" y="2369880"/>
            <a:ext cx="2305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nce 1987, measurements of Cl compound in the atmosphere have shown a declin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s graph shows the projections with and without the measures for the reduction of these compound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80" name="Picture 2" descr="http://www.environment.gov.au/atmosphere/ozone/legislation/images/montreal-effective-chlorine.gif"/>
          <p:cNvPicPr/>
          <p:nvPr/>
        </p:nvPicPr>
        <p:blipFill>
          <a:blip r:embed="rId2"/>
          <a:stretch/>
        </p:blipFill>
        <p:spPr>
          <a:xfrm>
            <a:off x="2556000" y="1916280"/>
            <a:ext cx="6352920" cy="455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AutoShape 2" descr=""/>
          <p:cNvPicPr/>
          <p:nvPr/>
        </p:nvPicPr>
        <p:blipFill>
          <a:blip r:embed="rId1"/>
          <a:stretch/>
        </p:blipFill>
        <p:spPr>
          <a:xfrm>
            <a:off x="109440" y="-30240"/>
            <a:ext cx="6778800" cy="14986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5100120" y="1916280"/>
            <a:ext cx="407844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Is fixed – i.e. closed system for matter, but not energy!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Has many function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Protection from cosmic ray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Keeping us war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Maintaining our supply of oxy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0" name="Picture 5" descr="http://hdwpapers.com/walls/earth_atmosphere_wallpapers-normal.jpg"/>
          <p:cNvPicPr/>
          <p:nvPr/>
        </p:nvPicPr>
        <p:blipFill>
          <a:blip r:embed="rId2"/>
          <a:stretch/>
        </p:blipFill>
        <p:spPr>
          <a:xfrm>
            <a:off x="324000" y="155736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84360" y="1953720"/>
            <a:ext cx="3456000" cy="40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91d34"/>
                </a:solidFill>
                <a:latin typeface="Arial"/>
                <a:ea typeface="Arial"/>
              </a:rPr>
              <a:t>Ground based method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91d34"/>
                </a:solidFill>
                <a:latin typeface="Arial"/>
                <a:ea typeface="Arial"/>
              </a:rPr>
              <a:t>Weather balloon-borne instrument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91d34"/>
                </a:solidFill>
                <a:latin typeface="Arial"/>
                <a:ea typeface="Arial"/>
              </a:rPr>
              <a:t>Satellite data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91d34"/>
                </a:solidFill>
                <a:latin typeface="Arial"/>
                <a:ea typeface="Arial"/>
              </a:rPr>
              <a:t>Total Ozone mapping Spectrometer (TOMS)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91d34"/>
                </a:solidFill>
                <a:latin typeface="Arial"/>
                <a:ea typeface="Arial"/>
              </a:rPr>
              <a:t>Solar Backscatter UV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468000" y="691920"/>
            <a:ext cx="53989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28600" indent="-228600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191d34"/>
                </a:solidFill>
                <a:latin typeface="Arial"/>
                <a:ea typeface="Arial"/>
              </a:rPr>
              <a:t>Monitoring Ozone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83" name="Picture 2" descr="http://www.iup.uni-bremen.de/gome/GOME_10y_logo.gif"/>
          <p:cNvPicPr/>
          <p:nvPr/>
        </p:nvPicPr>
        <p:blipFill>
          <a:blip r:embed="rId1"/>
          <a:stretch/>
        </p:blipFill>
        <p:spPr>
          <a:xfrm>
            <a:off x="5143680" y="1571760"/>
            <a:ext cx="2193840" cy="2178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ttp://news.spirithit.com/images/uploads/environment_378/10.12.04_satellite_378.jpg"/>
          <p:cNvPicPr/>
          <p:nvPr/>
        </p:nvPicPr>
        <p:blipFill>
          <a:blip r:embed="rId2"/>
          <a:stretch/>
        </p:blipFill>
        <p:spPr>
          <a:xfrm>
            <a:off x="4932360" y="4149720"/>
            <a:ext cx="3029040" cy="2187720"/>
          </a:xfrm>
          <a:prstGeom prst="rect">
            <a:avLst/>
          </a:prstGeom>
          <a:ln w="0">
            <a:noFill/>
          </a:ln>
        </p:spPr>
      </p:pic>
      <p:sp>
        <p:nvSpPr>
          <p:cNvPr id="385" name="TextBox 1"/>
          <p:cNvSpPr/>
          <p:nvPr/>
        </p:nvSpPr>
        <p:spPr>
          <a:xfrm>
            <a:off x="7524720" y="2205000"/>
            <a:ext cx="11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GOME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b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itor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per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AutoShap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954840" cy="21826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Small steps are being taken to reduce CFCs including the use of alternate propellants in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Refrigeration uni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Air conditioning uni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Propellants for spray ca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Using pump action instead of gas propellan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AutoShape 2" descr=""/>
          <p:cNvPicPr/>
          <p:nvPr/>
        </p:nvPicPr>
        <p:blipFill>
          <a:blip r:embed="rId1"/>
          <a:stretch/>
        </p:blipFill>
        <p:spPr>
          <a:xfrm>
            <a:off x="901800" y="401760"/>
            <a:ext cx="6956280" cy="21762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395280" y="2276640"/>
            <a:ext cx="619272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1713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4560" indent="-1713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You bet! In place of CFCs and Halons we now use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772560" indent="-171360"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Two main CFC replacements have been developed. They are called </a:t>
            </a:r>
            <a:r>
              <a:rPr b="1" lang="en-US" sz="1700" spc="-1" strike="noStrike">
                <a:solidFill>
                  <a:srgbClr val="4e67c8"/>
                </a:solidFill>
                <a:latin typeface="Trebuchet MS"/>
              </a:rPr>
              <a:t>hydrofluoroalkanes (HFAs)</a:t>
            </a: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 or </a:t>
            </a:r>
            <a:r>
              <a:rPr b="1" lang="en-US" sz="1700" spc="-1" strike="noStrike">
                <a:solidFill>
                  <a:srgbClr val="4e67c8"/>
                </a:solidFill>
                <a:latin typeface="Trebuchet MS"/>
              </a:rPr>
              <a:t>hydrofluorocarbons (HFCs),</a:t>
            </a: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 and contain only carbon, hydrogen and fluorine.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772560" indent="-171360"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They are non-flammable and chlorine-free, so </a:t>
            </a:r>
            <a:r>
              <a:rPr b="1" lang="en-US" sz="1700" spc="-1" strike="noStrike">
                <a:solidFill>
                  <a:srgbClr val="4e67c8"/>
                </a:solidFill>
                <a:latin typeface="Trebuchet MS"/>
              </a:rPr>
              <a:t>they have no impact on the stratospheric ozone layer</a:t>
            </a: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772560" indent="-171360"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The downside – these compounds are believed to be significant </a:t>
            </a:r>
            <a:r>
              <a:rPr b="0" lang="en-US" sz="1700" spc="-1" strike="noStrike">
                <a:solidFill>
                  <a:srgbClr val="ff0000"/>
                </a:solidFill>
                <a:latin typeface="Trebuchet MS"/>
              </a:rPr>
              <a:t>greenhouse gas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90" name="Picture 5" descr="http://meteolcd.files.wordpress.com/2010/12/hfc23_molecule.jpg"/>
          <p:cNvPicPr/>
          <p:nvPr/>
        </p:nvPicPr>
        <p:blipFill>
          <a:blip r:embed="rId2"/>
          <a:stretch/>
        </p:blipFill>
        <p:spPr>
          <a:xfrm>
            <a:off x="6659640" y="3284640"/>
            <a:ext cx="23619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AutoShape 2" descr=""/>
          <p:cNvPicPr/>
          <p:nvPr/>
        </p:nvPicPr>
        <p:blipFill>
          <a:blip r:embed="rId1"/>
          <a:stretch/>
        </p:blipFill>
        <p:spPr>
          <a:xfrm>
            <a:off x="762120" y="469800"/>
            <a:ext cx="8192880" cy="149868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2205000"/>
            <a:ext cx="41655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ydrocarbons</a:t>
            </a:r>
            <a:r>
              <a:rPr b="0" lang="en-US" sz="2400" spc="-1" strike="noStrike">
                <a:solidFill>
                  <a:srgbClr val="4e67c8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ch as </a:t>
            </a:r>
            <a:r>
              <a:rPr b="1" lang="en-US" sz="2400" spc="-1" strike="noStrike">
                <a:solidFill>
                  <a:srgbClr val="4e67c8"/>
                </a:solidFill>
                <a:latin typeface="Trebuchet MS"/>
              </a:rPr>
              <a:t>Cyclopentane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and </a:t>
            </a:r>
            <a:r>
              <a:rPr b="1" lang="en-US" sz="2400" spc="-1" strike="noStrike">
                <a:solidFill>
                  <a:srgbClr val="4e67c8"/>
                </a:solidFill>
                <a:latin typeface="Trebuchet MS"/>
              </a:rPr>
              <a:t>cyclohexane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have been put forth as replacements for coolant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67c8"/>
                </a:solidFill>
                <a:latin typeface="Trebuchet MS"/>
              </a:rPr>
              <a:t>Nitrogen ga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(inert) can be used as a blowing agent for substances like styrofoa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393" name="Object 4"/>
          <p:cNvGraphicFramePr/>
          <p:nvPr/>
        </p:nvGraphicFramePr>
        <p:xfrm>
          <a:off x="6300720" y="2565360"/>
          <a:ext cx="1355760" cy="322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2565360"/>
                    <a:ext cx="1355760" cy="32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AutoShape 2" descr=""/>
          <p:cNvPicPr/>
          <p:nvPr/>
        </p:nvPicPr>
        <p:blipFill>
          <a:blip r:embed="rId1"/>
          <a:stretch/>
        </p:blipFill>
        <p:spPr>
          <a:xfrm>
            <a:off x="762120" y="469800"/>
            <a:ext cx="8192880" cy="14986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755280" y="2080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Trebuchet MS"/>
              </a:rPr>
              <a:t>Is a very thin layer of ga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Trebuchet MS"/>
              </a:rPr>
              <a:t>Is small compared to Earth itself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3" name="Picture 7" descr="layers"/>
          <p:cNvPicPr/>
          <p:nvPr/>
        </p:nvPicPr>
        <p:blipFill>
          <a:blip r:embed="rId2"/>
          <a:stretch/>
        </p:blipFill>
        <p:spPr>
          <a:xfrm>
            <a:off x="4759200" y="2205000"/>
            <a:ext cx="3672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AutoShape 4" descr=""/>
          <p:cNvPicPr/>
          <p:nvPr/>
        </p:nvPicPr>
        <p:blipFill>
          <a:blip r:embed="rId1"/>
          <a:stretch/>
        </p:blipFill>
        <p:spPr>
          <a:xfrm>
            <a:off x="1554120" y="615960"/>
            <a:ext cx="7059600" cy="1498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atmosphere"/>
          <p:cNvPicPr/>
          <p:nvPr/>
        </p:nvPicPr>
        <p:blipFill>
          <a:blip r:embed="rId2"/>
          <a:stretch/>
        </p:blipFill>
        <p:spPr>
          <a:xfrm>
            <a:off x="1403280" y="1989000"/>
            <a:ext cx="64612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ext Placeholder 2" descr=""/>
          <p:cNvPicPr/>
          <p:nvPr/>
        </p:nvPicPr>
        <p:blipFill>
          <a:blip r:embed="rId1"/>
          <a:stretch/>
        </p:blipFill>
        <p:spPr>
          <a:xfrm>
            <a:off x="396720" y="262080"/>
            <a:ext cx="3346560" cy="7808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684000" y="907920"/>
            <a:ext cx="37782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The lowest lay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Home of lif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Home of weath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Home of pollution – mainly from human impac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Where planes f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8" name="Text Placeholder 3" descr=""/>
          <p:cNvPicPr/>
          <p:nvPr/>
        </p:nvPicPr>
        <p:blipFill>
          <a:blip r:embed="rId2"/>
          <a:stretch/>
        </p:blipFill>
        <p:spPr>
          <a:xfrm>
            <a:off x="4211640" y="262080"/>
            <a:ext cx="3348000" cy="780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642920" y="907920"/>
            <a:ext cx="3745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Home of the ozone lay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Where the Concorde once flew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Where greenhouse gases ar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Where global warming originat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0" name="Picture 5" descr="https://spark.ucar.edu/sites/default/files/images/large_image_for_image_content/troposphere_diagram_big.jpg"/>
          <p:cNvPicPr/>
          <p:nvPr/>
        </p:nvPicPr>
        <p:blipFill>
          <a:blip r:embed="rId3"/>
          <a:stretch/>
        </p:blipFill>
        <p:spPr>
          <a:xfrm>
            <a:off x="1835280" y="3213000"/>
            <a:ext cx="52578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AutoShape 2" descr=""/>
          <p:cNvPicPr/>
          <p:nvPr/>
        </p:nvPicPr>
        <p:blipFill>
          <a:blip r:embed="rId1"/>
          <a:stretch/>
        </p:blipFill>
        <p:spPr>
          <a:xfrm>
            <a:off x="2425680" y="49320"/>
            <a:ext cx="6778800" cy="14983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179280" y="1230480"/>
            <a:ext cx="28800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404040"/>
                </a:solidFill>
                <a:latin typeface="Trebuchet MS"/>
              </a:rPr>
              <a:t>Humans – industry, transport and domestic farm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541800" indent="-18036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Trebuchet MS"/>
              </a:rPr>
              <a:t>Particulates: carbon, dust and metals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541800" indent="-18036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Trebuchet MS"/>
              </a:rPr>
              <a:t>Gaseous: carbon dioxide, smog, unburnt hydrocarbons, etc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404040"/>
                </a:solidFill>
                <a:latin typeface="Trebuchet MS"/>
              </a:rPr>
              <a:t>Can be natural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541800" indent="-18036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Trebuchet MS"/>
              </a:rPr>
              <a:t>Chief source is volcanic activity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541800" indent="-18036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Trebuchet MS"/>
              </a:rPr>
              <a:t>Wildfir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541800" indent="-18036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Trebuchet MS"/>
              </a:rPr>
              <a:t>Lightning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3" name="Picture 5" descr="http://www.nature.nps.gov/air/aqbasics/images/types_of_sources_02-2012.jpg"/>
          <p:cNvPicPr/>
          <p:nvPr/>
        </p:nvPicPr>
        <p:blipFill>
          <a:blip r:embed="rId2"/>
          <a:stretch/>
        </p:blipFill>
        <p:spPr>
          <a:xfrm>
            <a:off x="3059280" y="1484280"/>
            <a:ext cx="587844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AutoShape 2" descr=""/>
          <p:cNvPicPr/>
          <p:nvPr/>
        </p:nvPicPr>
        <p:blipFill>
          <a:blip r:embed="rId1"/>
          <a:stretch/>
        </p:blipFill>
        <p:spPr>
          <a:xfrm>
            <a:off x="139680" y="122400"/>
            <a:ext cx="8693280" cy="121896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3168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Allotrope of oxy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Formed naturally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Oxygen molecule split by UV radiatio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Unstable Oxygen atom form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Atom joins with molecule to form ozon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336" name="Object 5"/>
          <p:cNvGraphicFramePr/>
          <p:nvPr/>
        </p:nvGraphicFramePr>
        <p:xfrm>
          <a:off x="4788000" y="4992840"/>
          <a:ext cx="3600360" cy="133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4992840"/>
                    <a:ext cx="360036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8" name="Picture 9" descr="Ozone Cycle"/>
          <p:cNvPicPr/>
          <p:nvPr/>
        </p:nvPicPr>
        <p:blipFill>
          <a:blip r:embed="rId4"/>
          <a:stretch/>
        </p:blipFill>
        <p:spPr>
          <a:xfrm>
            <a:off x="3635280" y="1341360"/>
            <a:ext cx="501012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3" descr=""/>
          <p:cNvPicPr/>
          <p:nvPr/>
        </p:nvPicPr>
        <p:blipFill>
          <a:blip r:embed="rId1"/>
          <a:stretch/>
        </p:blipFill>
        <p:spPr>
          <a:xfrm>
            <a:off x="1762200" y="4572000"/>
            <a:ext cx="6791400" cy="1547640"/>
          </a:xfrm>
          <a:prstGeom prst="rect">
            <a:avLst/>
          </a:prstGeom>
          <a:ln w="0">
            <a:noFill/>
          </a:ln>
        </p:spPr>
      </p:pic>
      <p:pic>
        <p:nvPicPr>
          <p:cNvPr id="340" name="Text Placeholder 4" descr=""/>
          <p:cNvPicPr/>
          <p:nvPr/>
        </p:nvPicPr>
        <p:blipFill>
          <a:blip r:embed="rId2"/>
          <a:stretch/>
        </p:blipFill>
        <p:spPr>
          <a:xfrm>
            <a:off x="1090440" y="706320"/>
            <a:ext cx="3457800" cy="13971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1155600" y="1400040"/>
            <a:ext cx="3348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iatomic molecule 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Contains double covalent bon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s @ RT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d for lif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2" name="Text Placeholder 6" descr=""/>
          <p:cNvPicPr/>
          <p:nvPr/>
        </p:nvPicPr>
        <p:blipFill>
          <a:blip r:embed="rId3"/>
          <a:stretch/>
        </p:blipFill>
        <p:spPr>
          <a:xfrm>
            <a:off x="4591080" y="706320"/>
            <a:ext cx="3456000" cy="13971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645080" y="1398600"/>
            <a:ext cx="3346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riatomic molecule 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Contains double covalent bond + coordinate bon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s @ RT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Lethal to lif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AutoShape 2" descr=""/>
          <p:cNvPicPr/>
          <p:nvPr/>
        </p:nvPicPr>
        <p:blipFill>
          <a:blip r:embed="rId1"/>
          <a:stretch/>
        </p:blipFill>
        <p:spPr>
          <a:xfrm>
            <a:off x="1981080" y="3975120"/>
            <a:ext cx="6954840" cy="21765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899640" y="731880"/>
            <a:ext cx="72010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This is another name for the unstable oxygen ato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ontains </a:t>
            </a:r>
            <a:r>
              <a:rPr b="1" lang="en-US" sz="2200" spc="-1" strike="noStrike">
                <a:solidFill>
                  <a:srgbClr val="4e67c8"/>
                </a:solidFill>
                <a:latin typeface="Trebuchet MS"/>
              </a:rPr>
              <a:t>unpaired electrons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in its valence shell of electron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s is an extremely unstable configuration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adicals quickly react with other molecules or radicals to achieve the stable configuration of 4 pairs of electrons in their valence shel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6" name="Picture 5" descr="http://www.bobbyshealthyshop.co.uk/oxygen-atom.jpg"/>
          <p:cNvPicPr/>
          <p:nvPr/>
        </p:nvPicPr>
        <p:blipFill>
          <a:blip r:embed="rId2"/>
          <a:stretch/>
        </p:blipFill>
        <p:spPr>
          <a:xfrm>
            <a:off x="684360" y="3645000"/>
            <a:ext cx="23810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03:56:59Z</dcterms:created>
  <dc:creator>Admin</dc:creator>
  <dc:description/>
  <dc:language>en-US</dc:language>
  <cp:lastModifiedBy>Robert Slider</cp:lastModifiedBy>
  <dcterms:modified xsi:type="dcterms:W3CDTF">2013-05-31T03:38:22Z</dcterms:modified>
  <cp:revision>37</cp:revision>
  <dc:subject/>
  <dc:title>Atmosphere</dc:title>
</cp:coreProperties>
</file>