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png" ContentType="image/png"/>
  <Override PartName="/ppt/media/image24.jpeg" ContentType="image/jpeg"/>
  <Override PartName="/ppt/media/image21.jpeg" ContentType="image/jpeg"/>
  <Override PartName="/ppt/media/image20.png" ContentType="image/png"/>
  <Override PartName="/ppt/media/image57.png" ContentType="image/png"/>
  <Override PartName="/ppt/media/image18.png" ContentType="image/png"/>
  <Override PartName="/ppt/media/image5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7.png" ContentType="image/png"/>
  <Override PartName="/ppt/media/image45.wmf" ContentType="image/x-wmf"/>
  <Override PartName="/ppt/media/image46.jpeg" ContentType="image/jpeg"/>
  <Override PartName="/ppt/media/image54.png" ContentType="image/png"/>
  <Override PartName="/ppt/media/image49.png" ContentType="image/png"/>
  <Override PartName="/ppt/media/image51.png" ContentType="image/png"/>
  <Override PartName="/ppt/media/image34.wmf" ContentType="image/x-wmf"/>
  <Override PartName="/ppt/media/image50.png" ContentType="image/png"/>
  <Override PartName="/ppt/media/image13.png" ContentType="image/png"/>
  <Override PartName="/ppt/media/image52.png" ContentType="image/png"/>
  <Override PartName="/ppt/media/image41.png" ContentType="image/png"/>
  <Override PartName="/ppt/media/image53.jpeg" ContentType="image/jpeg"/>
  <Override PartName="/ppt/media/image43.png" ContentType="image/png"/>
  <Override PartName="/ppt/media/image42.png" ContentType="image/png"/>
  <Override PartName="/ppt/media/image55.png" ContentType="image/png"/>
  <Override PartName="/ppt/media/image44.png" ContentType="image/png"/>
  <Override PartName="/ppt/media/image40.jpeg" ContentType="image/jpeg"/>
  <Override PartName="/ppt/media/image39.png" ContentType="image/png"/>
  <Override PartName="/ppt/media/image9.png" ContentType="image/png"/>
  <Override PartName="/ppt/media/image31.png" ContentType="image/png"/>
  <Override PartName="/ppt/media/image37.jpeg" ContentType="image/jpeg"/>
  <Override PartName="/ppt/media/image30.png" ContentType="image/png"/>
  <Override PartName="/ppt/media/image8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655D-E347-47F8-9B4E-A7838445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3DA7-B755-4DD0-8BDE-4D57CCA8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96F-DC62-4075-8CE4-0B5E7260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A48F-AB47-483C-AC63-26862ADE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752E-F1A1-4179-9D9E-4CFF9E2A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18ED-ED44-4EA4-9299-A29F7599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5600-A9E7-480C-87B2-40C1C31C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D1D3-6860-4611-B1DE-0B85677C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D3D8-AD87-4A94-B2EA-76C21541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AF1E-5064-4C7C-916C-C51F76AC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0341-837F-4473-A758-4B38D179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24E-3169-46BC-8CBB-0B5AA888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9B82-C010-4867-A377-CE146A4B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0179-0576-44EA-BA61-CF51FA40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CD77-717E-401C-A11C-E3D07FE5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B460-CC78-410D-A652-D476BF69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439A-3EC1-4E89-9A57-06E2A5B9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FF15C-855A-45BE-B15F-0C9ACEB7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0A47B-82BE-4788-9268-379409CE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5BE96-BBD0-47D6-8FCC-0DD99BBB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BB166-EDAB-44BF-BE17-9C577FAE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BF18A-B49B-4D31-83BE-9C8D04F8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C4D5-F130-4C8D-A698-E5F31478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4DAE1-E4FA-41C0-A09B-3303D394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EF492-32F2-48FB-9116-437A5031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9DCFD-0ABE-4CD3-80F7-D119C574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CB3DB-8D32-414E-BB8C-89DD1284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9A30D-1289-4B5B-9006-03E1D771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A4EAB-3710-426A-9F4F-33A8149E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F4722-DFF6-4D0E-95A5-F7A72734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4BAC6-0E3A-4AF4-B1C2-24F3EB85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1D82F-C82A-4C07-AFC0-EB350BDB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74E18-F8AC-4609-92A9-96A97BE6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140-92C6-40F4-9B5F-ED1CF4FB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0D6A9-ACD7-446E-9FD4-1B39C247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131A4-4CA1-441E-8E80-48CDFA91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5203A-9AEA-4197-80C2-7F1BA9E0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4BD39-7AD8-4123-82C6-6E9F9BC1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7F18C-501E-4CDC-8E75-3F5DCF86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CD8F0-940E-4D46-A6E1-9EDA153D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324A6-41C3-46EF-B40F-FAFEB0A3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CAF72-9D91-4EDC-8DE8-ADABBD9F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3365C-CB0C-479D-A35A-3D4188B0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BFE6E-26DE-4DED-8FB0-4B14D6B8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2770-FE37-42C4-B518-11927797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354C8-F148-4D08-A6CF-9B1302F3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67AF3-8BDD-4191-A580-DDB8C959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B71AF-F1AF-4831-B358-1F0FC874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5CEAD-0632-40DA-9924-CB22B6B2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A3A1E-CF72-410E-AEA9-71D43913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32FEE-BC5D-4A92-B18E-7082AE83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0FD2A-F50E-4D9E-80F0-8BABD4A7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AA540-B482-4286-BEDE-F0871D36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7ADE8-77EC-4C70-B61F-6FA482EA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058BA-351D-4EFD-8119-66A7129D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BCC0-1BC9-487E-8831-ABC5AFA8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6866F-99CF-42F6-81C9-BD19258C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88488-AC27-4304-BEB6-8C3E02AB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2B5C2-C4A0-438A-BD06-56BE31E6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A11DE-1CF6-408A-8B0F-C84EA8E5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10911-29A5-436E-AC7A-7C3F2F6D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82880-BBBB-4AF5-AAAB-D801A538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1008F-871E-414D-87B4-3DECBEDF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8004F-1D59-4931-A609-6C4EC8C6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67A04-06C2-47B8-A5E1-376FF367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C75BB-AF30-4875-A9F7-4A160695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A19D-2357-4543-BAF7-F90B65A7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8F06E-8094-4008-B45C-AC535EC2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F1458-3442-4AB7-A747-DF018539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2EA21-0875-402D-8B02-AF4818E6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E525-85E8-4BCE-8FC1-6A8687B1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42DE-FA9C-41D9-BBDB-47175B22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8933-CC8C-4204-86A6-65AA2BFDF30D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2115-39D4-47DF-8D71-806FBD734F5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44E8-6EBE-41A5-848E-D098894658E4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07D9-3DD9-4FD4-99C4-6FBF86E356B2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3F3F-ABF3-4D16-B47B-F56BD86C461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D0F3-A965-4605-A71B-58E8A824C69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45"/>
                </a:solidFill>
                <a:latin typeface="Trebuchet MS"/>
              </a:rPr>
              <a:t>Year 12 HSC Chemistry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17" name="AutoShape 2" descr=""/>
          <p:cNvPicPr/>
          <p:nvPr/>
        </p:nvPicPr>
        <p:blipFill>
          <a:blip r:embed="rId1"/>
          <a:stretch/>
        </p:blipFill>
        <p:spPr>
          <a:xfrm>
            <a:off x="585720" y="2786040"/>
            <a:ext cx="74059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AutoShape 2" descr=""/>
          <p:cNvPicPr/>
          <p:nvPr/>
        </p:nvPicPr>
        <p:blipFill>
          <a:blip r:embed="rId1"/>
          <a:stretch/>
        </p:blipFill>
        <p:spPr>
          <a:xfrm>
            <a:off x="2054160" y="3638520"/>
            <a:ext cx="6950160" cy="21826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1143000" y="731880"/>
            <a:ext cx="64008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A special covalent bond form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It is called a </a:t>
            </a:r>
            <a:r>
              <a:rPr b="1" lang="en-AU" sz="2200" spc="-1" strike="noStrike">
                <a:solidFill>
                  <a:srgbClr val="4e67c8"/>
                </a:solidFill>
                <a:latin typeface="Trebuchet MS"/>
              </a:rPr>
              <a:t>co-ordinate covalent bon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One of the oxygen molecule atoms has to share two of its electrons with the ato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9" name="Picture 5" descr="http://ibchem.com/drop/O3.gif"/>
          <p:cNvPicPr/>
          <p:nvPr/>
        </p:nvPicPr>
        <p:blipFill>
          <a:blip r:embed="rId2"/>
          <a:stretch/>
        </p:blipFill>
        <p:spPr>
          <a:xfrm>
            <a:off x="755640" y="3645000"/>
            <a:ext cx="1895400" cy="1542960"/>
          </a:xfrm>
          <a:prstGeom prst="rect">
            <a:avLst/>
          </a:prstGeom>
          <a:ln w="0">
            <a:noFill/>
          </a:ln>
        </p:spPr>
      </p:pic>
      <p:sp>
        <p:nvSpPr>
          <p:cNvPr id="350" name="TextBox 1"/>
          <p:cNvSpPr/>
          <p:nvPr/>
        </p:nvSpPr>
        <p:spPr>
          <a:xfrm>
            <a:off x="334800" y="5386320"/>
            <a:ext cx="27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-ordinate bond – both e- come from one a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Straight Arrow Connector 3" descr=""/>
          <p:cNvPicPr/>
          <p:nvPr/>
        </p:nvPicPr>
        <p:blipFill>
          <a:blip r:embed="rId3"/>
          <a:stretch/>
        </p:blipFill>
        <p:spPr>
          <a:xfrm>
            <a:off x="841320" y="4432320"/>
            <a:ext cx="116352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AutoShape 2" descr=""/>
          <p:cNvPicPr/>
          <p:nvPr/>
        </p:nvPicPr>
        <p:blipFill>
          <a:blip r:embed="rId1"/>
          <a:stretch/>
        </p:blipFill>
        <p:spPr>
          <a:xfrm>
            <a:off x="828720" y="-103320"/>
            <a:ext cx="8364600" cy="218124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156000" y="1773360"/>
            <a:ext cx="259236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4560" indent="-17136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Ozone is readily split apart to form oxygen molecule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4560" indent="-17136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This is a natural process occurring in the atmospher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54" name="Object 4"/>
          <p:cNvGraphicFramePr/>
          <p:nvPr/>
        </p:nvGraphicFramePr>
        <p:xfrm>
          <a:off x="3397320" y="4935600"/>
          <a:ext cx="2574720" cy="51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97320" y="4935600"/>
                    <a:ext cx="25747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6" name="Picture 13" descr="http://www.ozonedepletion.info/education/part1/fig5.gif"/>
          <p:cNvPicPr/>
          <p:nvPr/>
        </p:nvPicPr>
        <p:blipFill>
          <a:blip r:embed="rId4"/>
          <a:stretch/>
        </p:blipFill>
        <p:spPr>
          <a:xfrm>
            <a:off x="210960" y="1125360"/>
            <a:ext cx="589932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AutoShape 2" descr=""/>
          <p:cNvPicPr/>
          <p:nvPr/>
        </p:nvPicPr>
        <p:blipFill>
          <a:blip r:embed="rId1"/>
          <a:stretch/>
        </p:blipFill>
        <p:spPr>
          <a:xfrm>
            <a:off x="682560" y="658800"/>
            <a:ext cx="5327640" cy="21812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323640" y="2637000"/>
            <a:ext cx="68770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Trebuchet MS"/>
              </a:rPr>
              <a:t>CFC = chloro fluoro carb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FCs were developed in the early 1930s and are used in a variety of industrial, commercial, and household applica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sed as coolants for commercial and home refrigeration units, aerosol propellants, electronic cleaning solvents, and blowing agen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9" name="Picture 5" descr="http://www.soest.hawaii.edu/mguidry/Unnamed_Site_2/Chapter%202/Figures/cfcmolecules.jpg"/>
          <p:cNvPicPr/>
          <p:nvPr/>
        </p:nvPicPr>
        <p:blipFill>
          <a:blip r:embed="rId2"/>
          <a:stretch/>
        </p:blipFill>
        <p:spPr>
          <a:xfrm>
            <a:off x="6227640" y="981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http://static.ddmcdn.com/gif/ozone-layer-2.jpg"/>
          <p:cNvPicPr/>
          <p:nvPr/>
        </p:nvPicPr>
        <p:blipFill>
          <a:blip r:embed="rId3"/>
          <a:stretch/>
        </p:blipFill>
        <p:spPr>
          <a:xfrm>
            <a:off x="6804000" y="4890960"/>
            <a:ext cx="2232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AutoShap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954840" cy="21826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900000" y="549360"/>
            <a:ext cx="64008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Are compounds of bromine, fluorine and carbon (</a:t>
            </a:r>
            <a:r>
              <a:rPr b="0" i="1" lang="en-AU" sz="2200" spc="-1" strike="noStrike">
                <a:solidFill>
                  <a:srgbClr val="404040"/>
                </a:solidFill>
                <a:latin typeface="Trebuchet MS"/>
              </a:rPr>
              <a:t>although, fluorine compounds are not to blame for ozone depletion</a:t>
            </a: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halons are used as fire extinguishing agents, both in built-in systems and in handheld portable fire extinguishers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63" name="Picture 5" descr="http://www.risco.com.br/NL/MOL/14/Halon-1301-3D.jpg"/>
          <p:cNvPicPr/>
          <p:nvPr/>
        </p:nvPicPr>
        <p:blipFill>
          <a:blip r:embed="rId2"/>
          <a:stretch/>
        </p:blipFill>
        <p:spPr>
          <a:xfrm>
            <a:off x="395280" y="3713040"/>
            <a:ext cx="2448000" cy="27338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ttp://www.fm200.biz/danni_halons_3.gif"/>
          <p:cNvPicPr/>
          <p:nvPr/>
        </p:nvPicPr>
        <p:blipFill>
          <a:blip r:embed="rId3"/>
          <a:stretch/>
        </p:blipFill>
        <p:spPr>
          <a:xfrm>
            <a:off x="6948360" y="1197000"/>
            <a:ext cx="20289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AutoShap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In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1973 chlorine was found to be a catalytic agent in ozone destructio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It essentially cleaves the ozone to produce oxygen molecules – </a:t>
            </a:r>
            <a:r>
              <a:rPr b="1" lang="en-AU" sz="2200" spc="-1" strike="noStrike">
                <a:solidFill>
                  <a:srgbClr val="4e67c8"/>
                </a:solidFill>
                <a:latin typeface="Trebuchet MS"/>
              </a:rPr>
              <a:t>see next slid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67" name="Picture 5" descr="http://blogs.mcgill.ca/oss/files/2013/05/CFC.gif"/>
          <p:cNvPicPr/>
          <p:nvPr/>
        </p:nvPicPr>
        <p:blipFill>
          <a:blip r:embed="rId2"/>
          <a:stretch/>
        </p:blipFill>
        <p:spPr>
          <a:xfrm>
            <a:off x="611280" y="3500280"/>
            <a:ext cx="2857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AutoShape 2" descr=""/>
          <p:cNvPicPr/>
          <p:nvPr/>
        </p:nvPicPr>
        <p:blipFill>
          <a:blip r:embed="rId1"/>
          <a:stretch/>
        </p:blipFill>
        <p:spPr>
          <a:xfrm>
            <a:off x="762120" y="469800"/>
            <a:ext cx="8192880" cy="149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Object 6"/>
          <p:cNvGraphicFramePr/>
          <p:nvPr/>
        </p:nvGraphicFramePr>
        <p:xfrm>
          <a:off x="5292720" y="3068640"/>
          <a:ext cx="4087800" cy="211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3068640"/>
                    <a:ext cx="4087800" cy="21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1" name="Picture 7" descr="http://www.theozonehole.com/images/cfc.jpg"/>
          <p:cNvPicPr/>
          <p:nvPr/>
        </p:nvPicPr>
        <p:blipFill>
          <a:blip r:embed="rId4"/>
          <a:stretch/>
        </p:blipFill>
        <p:spPr>
          <a:xfrm>
            <a:off x="0" y="1916280"/>
            <a:ext cx="5022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AutoShape 2" descr=""/>
          <p:cNvPicPr/>
          <p:nvPr/>
        </p:nvPicPr>
        <p:blipFill>
          <a:blip r:embed="rId1"/>
          <a:stretch/>
        </p:blipFill>
        <p:spPr>
          <a:xfrm>
            <a:off x="-139680" y="469800"/>
            <a:ext cx="4046400" cy="14986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610920" y="2276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Human activity puts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chlorides and bromide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into the atmospher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Cold conditions are present in the Polar Regions that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allow the accumulation of the CFC’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Sunlight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breaks down the CFC’s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The breakdown products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destroy ozone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The ozone is broken into oxygen molecul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Reduced ozone protection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in the stratospher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AutoShape 2" descr=""/>
          <p:cNvPicPr/>
          <p:nvPr/>
        </p:nvPicPr>
        <p:blipFill>
          <a:blip r:embed="rId1"/>
          <a:stretch/>
        </p:blipFill>
        <p:spPr>
          <a:xfrm>
            <a:off x="1401840" y="4218120"/>
            <a:ext cx="7169040" cy="15001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CFC problem may be hard to solve because there are already great quantities of CFCs in the environment. 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FCs would remain in the stratosphere for another 100 years even if none were ever produced agai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n the </a:t>
            </a:r>
            <a:r>
              <a:rPr b="1" lang="en-US" sz="2200" spc="-1" strike="noStrike">
                <a:solidFill>
                  <a:srgbClr val="4e67c8"/>
                </a:solidFill>
                <a:latin typeface="Trebuchet MS"/>
              </a:rPr>
              <a:t>Montreal Protocol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, 30 nations worldwide agreed to reduce usage of CFCs and encouraged other countries to do so as well (see next slides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AutoShape 2" descr=""/>
          <p:cNvPicPr/>
          <p:nvPr/>
        </p:nvPicPr>
        <p:blipFill>
          <a:blip r:embed="rId1"/>
          <a:stretch/>
        </p:blipFill>
        <p:spPr>
          <a:xfrm>
            <a:off x="2054160" y="4359240"/>
            <a:ext cx="6778800" cy="14986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755640" y="549360"/>
            <a:ext cx="76932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The 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Montreal Protocol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was a convention signed in 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1987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by many countries to greatly reduce the production and use of CFCs which prevent further damage to the ozone layer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Since 1987, further amendments to the protocol have imposed and even greater restrictions on the production and use of potentially damaging compounds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69800" y="469800"/>
            <a:ext cx="8485200" cy="14986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250560" y="2369880"/>
            <a:ext cx="2305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nce 1987, measurements of Cl compound in the atmosphere have shown a declin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s graph shows the projections with and without the measures for the reduction of these compound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80" name="Picture 2" descr="http://www.environment.gov.au/atmosphere/ozone/legislation/images/montreal-effective-chlorine.gif"/>
          <p:cNvPicPr/>
          <p:nvPr/>
        </p:nvPicPr>
        <p:blipFill>
          <a:blip r:embed="rId2"/>
          <a:stretch/>
        </p:blipFill>
        <p:spPr>
          <a:xfrm>
            <a:off x="2556000" y="1916280"/>
            <a:ext cx="6352920" cy="455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AutoShape 2" descr=""/>
          <p:cNvPicPr/>
          <p:nvPr/>
        </p:nvPicPr>
        <p:blipFill>
          <a:blip r:embed="rId1"/>
          <a:stretch/>
        </p:blipFill>
        <p:spPr>
          <a:xfrm>
            <a:off x="109440" y="-30240"/>
            <a:ext cx="6778800" cy="14986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5100120" y="1916280"/>
            <a:ext cx="407844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Is fixed – i.e. closed system for matter, but not energy!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Has many function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Protection from cosmic ray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Keeping us war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Maintaining our supply of oxy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0" name="Picture 5" descr="http://hdwpapers.com/walls/earth_atmosphere_wallpapers-normal.jpg"/>
          <p:cNvPicPr/>
          <p:nvPr/>
        </p:nvPicPr>
        <p:blipFill>
          <a:blip r:embed="rId2"/>
          <a:stretch/>
        </p:blipFill>
        <p:spPr>
          <a:xfrm>
            <a:off x="324000" y="155736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84360" y="1953720"/>
            <a:ext cx="3456000" cy="40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Ground based method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Weather balloon-borne instrument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Satellite dat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Total Ozone mapping Spectrometer (TOMS)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Solar Backscatter UV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468000" y="691920"/>
            <a:ext cx="5398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28600" indent="-2286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191d34"/>
                </a:solidFill>
                <a:latin typeface="Arial"/>
                <a:ea typeface="Arial"/>
              </a:rPr>
              <a:t>Monitoring Ozone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83" name="Picture 2" descr="http://www.iup.uni-bremen.de/gome/GOME_10y_logo.gif"/>
          <p:cNvPicPr/>
          <p:nvPr/>
        </p:nvPicPr>
        <p:blipFill>
          <a:blip r:embed="rId1"/>
          <a:stretch/>
        </p:blipFill>
        <p:spPr>
          <a:xfrm>
            <a:off x="5143680" y="1571760"/>
            <a:ext cx="2193840" cy="2178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news.spirithit.com/images/uploads/environment_378/10.12.04_satellite_378.jpg"/>
          <p:cNvPicPr/>
          <p:nvPr/>
        </p:nvPicPr>
        <p:blipFill>
          <a:blip r:embed="rId2"/>
          <a:stretch/>
        </p:blipFill>
        <p:spPr>
          <a:xfrm>
            <a:off x="4932360" y="4149720"/>
            <a:ext cx="3029040" cy="2187720"/>
          </a:xfrm>
          <a:prstGeom prst="rect">
            <a:avLst/>
          </a:prstGeom>
          <a:ln w="0">
            <a:noFill/>
          </a:ln>
        </p:spPr>
      </p:pic>
      <p:sp>
        <p:nvSpPr>
          <p:cNvPr id="385" name="TextBox 1"/>
          <p:cNvSpPr/>
          <p:nvPr/>
        </p:nvSpPr>
        <p:spPr>
          <a:xfrm>
            <a:off x="7524720" y="2205000"/>
            <a:ext cx="11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OME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b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ito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per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AutoShap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954840" cy="21826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Small steps are being taken to reduce CFCs including the use of alternate propellants in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Refrigeration uni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Air conditioning uni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Propellants for spray ca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Using pump action instead of gas propellan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AutoShape 2" descr=""/>
          <p:cNvPicPr/>
          <p:nvPr/>
        </p:nvPicPr>
        <p:blipFill>
          <a:blip r:embed="rId1"/>
          <a:stretch/>
        </p:blipFill>
        <p:spPr>
          <a:xfrm>
            <a:off x="901800" y="401760"/>
            <a:ext cx="6956280" cy="21762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395280" y="2276640"/>
            <a:ext cx="619272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1713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4560" indent="-1713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You bet! In place of CFCs and Halons we now use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772560" indent="-171360"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Two main CFC replacements have been developed. They are called </a:t>
            </a:r>
            <a:r>
              <a:rPr b="1" lang="en-US" sz="1700" spc="-1" strike="noStrike">
                <a:solidFill>
                  <a:srgbClr val="4e67c8"/>
                </a:solidFill>
                <a:latin typeface="Trebuchet MS"/>
              </a:rPr>
              <a:t>hydrofluoroalkanes (HFAs)</a:t>
            </a: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 or </a:t>
            </a:r>
            <a:r>
              <a:rPr b="1" lang="en-US" sz="1700" spc="-1" strike="noStrike">
                <a:solidFill>
                  <a:srgbClr val="4e67c8"/>
                </a:solidFill>
                <a:latin typeface="Trebuchet MS"/>
              </a:rPr>
              <a:t>hydrofluorocarbons (HFCs),</a:t>
            </a: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 and contain only carbon, hydrogen and fluorine.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772560" indent="-171360"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They are non-flammable and chlorine-free, so </a:t>
            </a:r>
            <a:r>
              <a:rPr b="1" lang="en-US" sz="1700" spc="-1" strike="noStrike">
                <a:solidFill>
                  <a:srgbClr val="4e67c8"/>
                </a:solidFill>
                <a:latin typeface="Trebuchet MS"/>
              </a:rPr>
              <a:t>they have no impact on the stratospheric ozone layer</a:t>
            </a: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772560" indent="-171360"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The downside – these compounds are believed to be significant </a:t>
            </a:r>
            <a:r>
              <a:rPr b="0" lang="en-US" sz="1700" spc="-1" strike="noStrike">
                <a:solidFill>
                  <a:srgbClr val="ff0000"/>
                </a:solidFill>
                <a:latin typeface="Trebuchet MS"/>
              </a:rPr>
              <a:t>greenhouse gas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90" name="Picture 5" descr="http://meteolcd.files.wordpress.com/2010/12/hfc23_molecule.jpg"/>
          <p:cNvPicPr/>
          <p:nvPr/>
        </p:nvPicPr>
        <p:blipFill>
          <a:blip r:embed="rId2"/>
          <a:stretch/>
        </p:blipFill>
        <p:spPr>
          <a:xfrm>
            <a:off x="6659640" y="3284640"/>
            <a:ext cx="23619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AutoShape 2" descr=""/>
          <p:cNvPicPr/>
          <p:nvPr/>
        </p:nvPicPr>
        <p:blipFill>
          <a:blip r:embed="rId1"/>
          <a:stretch/>
        </p:blipFill>
        <p:spPr>
          <a:xfrm>
            <a:off x="762120" y="469800"/>
            <a:ext cx="8192880" cy="14986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2205000"/>
            <a:ext cx="41655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ydrocarbons</a:t>
            </a:r>
            <a:r>
              <a:rPr b="0" lang="en-US" sz="2400" spc="-1" strike="noStrike">
                <a:solidFill>
                  <a:srgbClr val="4e67c8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ch as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</a:rPr>
              <a:t>Cyclopentane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and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</a:rPr>
              <a:t>cyclohexane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have been put forth as replacements for coolant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67c8"/>
                </a:solidFill>
                <a:latin typeface="Trebuchet MS"/>
              </a:rPr>
              <a:t>Nitrogen ga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(inert) can be used as a blowing agent for substances like styrofoa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93" name="Object 4"/>
          <p:cNvGraphicFramePr/>
          <p:nvPr/>
        </p:nvGraphicFramePr>
        <p:xfrm>
          <a:off x="6300720" y="2565360"/>
          <a:ext cx="1355760" cy="322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2565360"/>
                    <a:ext cx="1355760" cy="32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AutoShape 2" descr=""/>
          <p:cNvPicPr/>
          <p:nvPr/>
        </p:nvPicPr>
        <p:blipFill>
          <a:blip r:embed="rId1"/>
          <a:stretch/>
        </p:blipFill>
        <p:spPr>
          <a:xfrm>
            <a:off x="762120" y="469800"/>
            <a:ext cx="8192880" cy="14986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755280" y="2080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Trebuchet MS"/>
              </a:rPr>
              <a:t>Is a very thin layer of ga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Trebuchet MS"/>
              </a:rPr>
              <a:t>Is small compared to Earth itsel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3" name="Picture 7" descr="layers"/>
          <p:cNvPicPr/>
          <p:nvPr/>
        </p:nvPicPr>
        <p:blipFill>
          <a:blip r:embed="rId2"/>
          <a:stretch/>
        </p:blipFill>
        <p:spPr>
          <a:xfrm>
            <a:off x="4759200" y="2205000"/>
            <a:ext cx="3672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AutoShape 4" descr=""/>
          <p:cNvPicPr/>
          <p:nvPr/>
        </p:nvPicPr>
        <p:blipFill>
          <a:blip r:embed="rId1"/>
          <a:stretch/>
        </p:blipFill>
        <p:spPr>
          <a:xfrm>
            <a:off x="1554120" y="615960"/>
            <a:ext cx="7059600" cy="1498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atmosphere"/>
          <p:cNvPicPr/>
          <p:nvPr/>
        </p:nvPicPr>
        <p:blipFill>
          <a:blip r:embed="rId2"/>
          <a:stretch/>
        </p:blipFill>
        <p:spPr>
          <a:xfrm>
            <a:off x="1403280" y="1989000"/>
            <a:ext cx="64612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ext Placeholder 2" descr=""/>
          <p:cNvPicPr/>
          <p:nvPr/>
        </p:nvPicPr>
        <p:blipFill>
          <a:blip r:embed="rId1"/>
          <a:stretch/>
        </p:blipFill>
        <p:spPr>
          <a:xfrm>
            <a:off x="396720" y="262080"/>
            <a:ext cx="3346560" cy="7808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684000" y="907920"/>
            <a:ext cx="37782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The lowest lay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Home of lif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Home of weath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Home of pollution – mainly from human impac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Where planes f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8" name="Text Placeholder 3" descr=""/>
          <p:cNvPicPr/>
          <p:nvPr/>
        </p:nvPicPr>
        <p:blipFill>
          <a:blip r:embed="rId2"/>
          <a:stretch/>
        </p:blipFill>
        <p:spPr>
          <a:xfrm>
            <a:off x="4211640" y="262080"/>
            <a:ext cx="3348000" cy="780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642920" y="907920"/>
            <a:ext cx="3745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Home of the ozone lay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Where the Concorde once flew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Where greenhouse gases ar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Where global warming originat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0" name="Picture 5" descr="https://spark.ucar.edu/sites/default/files/images/large_image_for_image_content/troposphere_diagram_big.jpg"/>
          <p:cNvPicPr/>
          <p:nvPr/>
        </p:nvPicPr>
        <p:blipFill>
          <a:blip r:embed="rId3"/>
          <a:stretch/>
        </p:blipFill>
        <p:spPr>
          <a:xfrm>
            <a:off x="1835280" y="3213000"/>
            <a:ext cx="52578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AutoShape 2" descr=""/>
          <p:cNvPicPr/>
          <p:nvPr/>
        </p:nvPicPr>
        <p:blipFill>
          <a:blip r:embed="rId1"/>
          <a:stretch/>
        </p:blipFill>
        <p:spPr>
          <a:xfrm>
            <a:off x="2425680" y="49320"/>
            <a:ext cx="6778800" cy="14983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179280" y="1230480"/>
            <a:ext cx="2880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404040"/>
                </a:solidFill>
                <a:latin typeface="Trebuchet MS"/>
              </a:rPr>
              <a:t>Humans – industry, transport and domestic farm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Particulates: carbon, dust and metals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Gaseous: carbon dioxide, smog, unburnt hydrocarbons, etc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404040"/>
                </a:solidFill>
                <a:latin typeface="Trebuchet MS"/>
              </a:rPr>
              <a:t>Can be natural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Chief source is volcanic activity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Wildfir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Lightning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3" name="Picture 5" descr="http://www.nature.nps.gov/air/aqbasics/images/types_of_sources_02-2012.jpg"/>
          <p:cNvPicPr/>
          <p:nvPr/>
        </p:nvPicPr>
        <p:blipFill>
          <a:blip r:embed="rId2"/>
          <a:stretch/>
        </p:blipFill>
        <p:spPr>
          <a:xfrm>
            <a:off x="3059280" y="1484280"/>
            <a:ext cx="587844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AutoShape 2" descr=""/>
          <p:cNvPicPr/>
          <p:nvPr/>
        </p:nvPicPr>
        <p:blipFill>
          <a:blip r:embed="rId1"/>
          <a:stretch/>
        </p:blipFill>
        <p:spPr>
          <a:xfrm>
            <a:off x="139680" y="122400"/>
            <a:ext cx="8693280" cy="121896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3168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Allotrope of oxy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Formed naturall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Oxygen molecule split by UV radiatio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Unstable Oxygen atom form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Atom joins with molecule to form ozon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36" name="Object 5"/>
          <p:cNvGraphicFramePr/>
          <p:nvPr/>
        </p:nvGraphicFramePr>
        <p:xfrm>
          <a:off x="4788000" y="4992840"/>
          <a:ext cx="3600360" cy="133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4992840"/>
                    <a:ext cx="360036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8" name="Picture 9" descr="Ozone Cycle"/>
          <p:cNvPicPr/>
          <p:nvPr/>
        </p:nvPicPr>
        <p:blipFill>
          <a:blip r:embed="rId4"/>
          <a:stretch/>
        </p:blipFill>
        <p:spPr>
          <a:xfrm>
            <a:off x="3635280" y="1341360"/>
            <a:ext cx="501012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3" descr=""/>
          <p:cNvPicPr/>
          <p:nvPr/>
        </p:nvPicPr>
        <p:blipFill>
          <a:blip r:embed="rId1"/>
          <a:stretch/>
        </p:blipFill>
        <p:spPr>
          <a:xfrm>
            <a:off x="1762200" y="4572000"/>
            <a:ext cx="6791400" cy="1547640"/>
          </a:xfrm>
          <a:prstGeom prst="rect">
            <a:avLst/>
          </a:prstGeom>
          <a:ln w="0">
            <a:noFill/>
          </a:ln>
        </p:spPr>
      </p:pic>
      <p:pic>
        <p:nvPicPr>
          <p:cNvPr id="340" name="Text Placeholder 4" descr=""/>
          <p:cNvPicPr/>
          <p:nvPr/>
        </p:nvPicPr>
        <p:blipFill>
          <a:blip r:embed="rId2"/>
          <a:stretch/>
        </p:blipFill>
        <p:spPr>
          <a:xfrm>
            <a:off x="1090440" y="706320"/>
            <a:ext cx="3457800" cy="13971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1155600" y="1400040"/>
            <a:ext cx="3348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iatomic molecule 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ontains double covalent bon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s @ RT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d for lif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2" name="Text Placeholder 6" descr=""/>
          <p:cNvPicPr/>
          <p:nvPr/>
        </p:nvPicPr>
        <p:blipFill>
          <a:blip r:embed="rId3"/>
          <a:stretch/>
        </p:blipFill>
        <p:spPr>
          <a:xfrm>
            <a:off x="4591080" y="706320"/>
            <a:ext cx="3456000" cy="13971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645080" y="1398600"/>
            <a:ext cx="3346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riatomic molecule 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ontains double covalent bond + coordinate bon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s @ RT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Lethal to lif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AutoShape 2" descr=""/>
          <p:cNvPicPr/>
          <p:nvPr/>
        </p:nvPicPr>
        <p:blipFill>
          <a:blip r:embed="rId1"/>
          <a:stretch/>
        </p:blipFill>
        <p:spPr>
          <a:xfrm>
            <a:off x="1981080" y="3975120"/>
            <a:ext cx="6954840" cy="21765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899640" y="731880"/>
            <a:ext cx="72010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This is another name for the unstable oxygen ato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ontains </a:t>
            </a:r>
            <a:r>
              <a:rPr b="1" lang="en-US" sz="2200" spc="-1" strike="noStrike">
                <a:solidFill>
                  <a:srgbClr val="4e67c8"/>
                </a:solidFill>
                <a:latin typeface="Trebuchet MS"/>
              </a:rPr>
              <a:t>unpaired electrons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in its valence shell of electron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s is an extremely unstable configuration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adicals quickly react with other molecules or radicals to achieve the stable configuration of 4 pairs of electrons in their valence shel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6" name="Picture 5" descr="http://www.bobbyshealthyshop.co.uk/oxygen-atom.jpg"/>
          <p:cNvPicPr/>
          <p:nvPr/>
        </p:nvPicPr>
        <p:blipFill>
          <a:blip r:embed="rId2"/>
          <a:stretch/>
        </p:blipFill>
        <p:spPr>
          <a:xfrm>
            <a:off x="684360" y="3645000"/>
            <a:ext cx="23810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03:56:59Z</dcterms:created>
  <dc:creator>Admin</dc:creator>
  <dc:description/>
  <dc:language>en-US</dc:language>
  <cp:lastModifiedBy>Robert Slider</cp:lastModifiedBy>
  <dcterms:modified xsi:type="dcterms:W3CDTF">2013-05-31T03:38:22Z</dcterms:modified>
  <cp:revision>37</cp:revision>
  <dc:subject/>
  <dc:title>Atmosphere</dc:title>
</cp:coreProperties>
</file>