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5.wmf" ContentType="image/x-wmf"/>
  <Override PartName="/ppt/media/image46.jpeg" ContentType="image/jpeg"/>
  <Override PartName="/ppt/media/image54.png" ContentType="image/png"/>
  <Override PartName="/ppt/media/image49.png" ContentType="image/png"/>
  <Override PartName="/ppt/media/image51.png" ContentType="image/png"/>
  <Override PartName="/ppt/media/image34.wmf" ContentType="image/x-wmf"/>
  <Override PartName="/ppt/media/image50.png" ContentType="image/png"/>
  <Override PartName="/ppt/media/image13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8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377-96C0-4BF4-9FE1-64A4CC97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805-C268-4800-B2D8-A77AE2F2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B28-0087-4681-8018-5A3C2139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654-D92A-4EB2-B112-11718162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AD7A-7869-4F5A-A950-779ECB43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D49F-7CDC-4151-AD4F-0A9DF349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5A50-4B4F-40FD-9157-644D5D93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95F5-3718-4ED7-A1C3-E70FCB5F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EEA6-FC27-42F4-8E05-8B814B6B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DA9A-D914-4B6B-B994-69408081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DD57-A164-49D0-B86F-F5853B1B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814-26D8-4445-8885-550621F0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FC3F-57A7-4745-8CF5-BE3FFACD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386F-CAAA-45A5-8FA7-BE3A8027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57C3-2AB8-4DAC-AAA4-31DEBD77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72C5-0DF1-4D31-AAEC-3124BB96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810D-1D7A-4DEC-B2A1-D12FD9E5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70A9-C4E8-4BD2-B0D0-B7887886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2DF5-2FE3-43B3-B439-58657B4F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B447-4C1D-4FCB-B558-66AA9657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0B55-9EB2-42D2-BE9F-0DE1826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6090-8599-4FFB-AADC-E2365CDC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6CD-CA6C-456D-8784-2F126902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55C1-F260-4FC8-995A-294930B6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50F7-0F07-4A2A-BA4A-C4F12599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2CAB7-DBE6-4E36-B477-739CF8AA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4CAC-829E-4F0F-86A6-8617D997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D18C-276D-4041-A57A-345EB9B5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BD11-77B3-4661-AFB7-99B74C40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38BA4-D0D2-49AB-B183-27C8EA10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E91A-8055-4D7E-B02D-CFF1C740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D7B1-DC0C-4988-9E80-4B3F2A67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5F25A-EFDA-4907-802B-0975BEF2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598-C2A3-41A5-B7FB-77DAE875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F2E5-59E3-4289-8625-3BBACD29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7095-0C66-48F9-967E-C58415ED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5F6E-6BC2-439A-894F-727A1DAB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A1817-3E61-4AEF-BC84-6DA6F445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D2F90-F321-4992-B893-0CBB16A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DF12-0B49-49F9-8FB7-50E54DEA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A2F5-5949-432E-9E1A-15D041B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7B7E1-609B-4F19-8F18-9986E966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D5ABB-C1E0-477E-B430-9953BBF6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ED2E-CD6D-4B04-BD36-EF889EFA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5F1-C97C-45BF-9A2F-56004F5D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F1805-48AA-42C1-B791-9E5D97AC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A5CA2-2090-4767-8340-D7EE3845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673C-A00A-4126-B273-C95E1EF7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1C0BF-33A4-493A-9D13-E3F6A36F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7F993-1B95-422D-AB2D-5A74DF82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10055-114D-4923-B005-95F99EF1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5B694-7C77-4152-BEE2-DCAF522A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31044-07DC-467C-88D5-F82AB93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B3385-B476-4533-A6E4-AA0CFCF2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CFD61-C4EC-4BE0-BC67-9C3AA024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52D-A43C-41D6-8FEE-770BDF71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BC016-1C83-4F3A-BCBC-7749A40E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A3A68-03EB-4772-BDFB-625372E1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6C0EB-EA13-43CE-A5B2-BFCEB4D1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99085-5576-4A2A-AEAC-925C878A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05977-640B-4548-A8B5-94B88343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A32C0-47A8-4260-9FA5-9340B139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6F3A4-3189-47DD-AA56-1010C979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73AE3-8AB1-4494-A316-86FEE0D5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D1267-08DE-4A4E-AF35-DB1C8305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FA79F-F2EE-4FFF-9447-B13812CA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2E6-E562-4FE4-9914-D5699902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7FB65-53C9-4E94-8F2E-28528643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5E617-8339-4677-BAF7-AD2409BC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D73C1-729C-407D-9571-A1A8EA19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6C0-5553-441B-A97D-D07A2840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922-3432-4818-9333-90F5BAFF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E210-305F-469A-8612-3E978CD9D1E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DE25-7361-4099-AA35-83F595FFDDA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8B1A-D736-457C-8026-104C4EE3DC7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C74A-7457-4D16-BEF3-B5A8397A582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D086-F497-4A1F-9E40-2E46C941054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D499-0C52-4D17-B32B-9ADC1DC25AA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Year 12 HSC Chemis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7" name="AutoShape 2" descr=""/>
          <p:cNvPicPr/>
          <p:nvPr/>
        </p:nvPicPr>
        <p:blipFill>
          <a:blip r:embed="rId1"/>
          <a:stretch/>
        </p:blipFill>
        <p:spPr>
          <a:xfrm>
            <a:off x="585720" y="2786040"/>
            <a:ext cx="74059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utoShape 2" descr=""/>
          <p:cNvPicPr/>
          <p:nvPr/>
        </p:nvPicPr>
        <p:blipFill>
          <a:blip r:embed="rId1"/>
          <a:stretch/>
        </p:blipFill>
        <p:spPr>
          <a:xfrm>
            <a:off x="2054160" y="3638520"/>
            <a:ext cx="6950160" cy="2182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143000" y="731880"/>
            <a:ext cx="6400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 special covalent bond form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is called a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co-ordinate covalent bo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ne of the oxygen molecule atoms has to share two of its electrons with the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9" name="Picture 5" descr="http://ibchem.com/drop/O3.gif"/>
          <p:cNvPicPr/>
          <p:nvPr/>
        </p:nvPicPr>
        <p:blipFill>
          <a:blip r:embed="rId2"/>
          <a:stretch/>
        </p:blipFill>
        <p:spPr>
          <a:xfrm>
            <a:off x="755640" y="3645000"/>
            <a:ext cx="1895400" cy="15429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"/>
          <p:cNvSpPr/>
          <p:nvPr/>
        </p:nvSpPr>
        <p:spPr>
          <a:xfrm>
            <a:off x="334800" y="538632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-ordinate bond – both e- come from one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Straight Arrow Connector 3" descr=""/>
          <p:cNvPicPr/>
          <p:nvPr/>
        </p:nvPicPr>
        <p:blipFill>
          <a:blip r:embed="rId3"/>
          <a:stretch/>
        </p:blipFill>
        <p:spPr>
          <a:xfrm>
            <a:off x="841320" y="4432320"/>
            <a:ext cx="116352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AutoShape 2" descr=""/>
          <p:cNvPicPr/>
          <p:nvPr/>
        </p:nvPicPr>
        <p:blipFill>
          <a:blip r:embed="rId1"/>
          <a:stretch/>
        </p:blipFill>
        <p:spPr>
          <a:xfrm>
            <a:off x="828720" y="-103320"/>
            <a:ext cx="8364600" cy="21812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156000" y="1773360"/>
            <a:ext cx="2592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zone is readily split apart to form oxygen molecu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 natural process occurring in the atmosphe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3397320" y="4935600"/>
          <a:ext cx="257472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7320" y="4935600"/>
                    <a:ext cx="2574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6" name="Picture 13" descr="http://www.ozonedepletion.info/education/part1/fig5.gif"/>
          <p:cNvPicPr/>
          <p:nvPr/>
        </p:nvPicPr>
        <p:blipFill>
          <a:blip r:embed="rId4"/>
          <a:stretch/>
        </p:blipFill>
        <p:spPr>
          <a:xfrm>
            <a:off x="210960" y="1125360"/>
            <a:ext cx="58993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AutoShape 2" descr=""/>
          <p:cNvPicPr/>
          <p:nvPr/>
        </p:nvPicPr>
        <p:blipFill>
          <a:blip r:embed="rId1"/>
          <a:stretch/>
        </p:blipFill>
        <p:spPr>
          <a:xfrm>
            <a:off x="682560" y="658800"/>
            <a:ext cx="5327640" cy="2181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23640" y="2637000"/>
            <a:ext cx="6877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CFC = chloro fluoro carb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FCs were developed in the early 1930s and are used in a variety of industrial, commercial, and household applic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as coolants for commercial and home refrigeration units, aerosol propellants, electronic cleaning solvents, and blowing ag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Picture 5" descr="http://www.soest.hawaii.edu/mguidry/Unnamed_Site_2/Chapter%202/Figures/cfcmolecules.jpg"/>
          <p:cNvPicPr/>
          <p:nvPr/>
        </p:nvPicPr>
        <p:blipFill>
          <a:blip r:embed="rId2"/>
          <a:stretch/>
        </p:blipFill>
        <p:spPr>
          <a:xfrm>
            <a:off x="6227640" y="981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http://static.ddmcdn.com/gif/ozone-layer-2.jpg"/>
          <p:cNvPicPr/>
          <p:nvPr/>
        </p:nvPicPr>
        <p:blipFill>
          <a:blip r:embed="rId3"/>
          <a:stretch/>
        </p:blipFill>
        <p:spPr>
          <a:xfrm>
            <a:off x="6804000" y="4890960"/>
            <a:ext cx="2232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900000" y="54936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re compounds of bromine, fluorine and carbon (</a:t>
            </a:r>
            <a:r>
              <a:rPr b="0" i="1" lang="en-AU" sz="2200" spc="-1" strike="noStrike">
                <a:solidFill>
                  <a:srgbClr val="404040"/>
                </a:solidFill>
                <a:latin typeface="Trebuchet MS"/>
              </a:rPr>
              <a:t>although, fluorine compounds are not to blame for ozone depletion</a:t>
            </a: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alons are used as fire extinguishing agents, both in built-in systems and in handheld portable fire extinguisher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3" name="Picture 5" descr="http://www.risco.com.br/NL/MOL/14/Halon-1301-3D.jpg"/>
          <p:cNvPicPr/>
          <p:nvPr/>
        </p:nvPicPr>
        <p:blipFill>
          <a:blip r:embed="rId2"/>
          <a:stretch/>
        </p:blipFill>
        <p:spPr>
          <a:xfrm>
            <a:off x="395280" y="3713040"/>
            <a:ext cx="2448000" cy="2733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fm200.biz/danni_halons_3.gif"/>
          <p:cNvPicPr/>
          <p:nvPr/>
        </p:nvPicPr>
        <p:blipFill>
          <a:blip r:embed="rId3"/>
          <a:stretch/>
        </p:blipFill>
        <p:spPr>
          <a:xfrm>
            <a:off x="6948360" y="1197000"/>
            <a:ext cx="20289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973 chlorine was found to be a catalytic agent in ozone destructio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essentially cleaves the ozone to produce oxygen molecules –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see next sli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7" name="Picture 5" descr="http://blogs.mcgill.ca/oss/files/2013/05/CFC.gif"/>
          <p:cNvPicPr/>
          <p:nvPr/>
        </p:nvPicPr>
        <p:blipFill>
          <a:blip r:embed="rId2"/>
          <a:stretch/>
        </p:blipFill>
        <p:spPr>
          <a:xfrm>
            <a:off x="611280" y="3500280"/>
            <a:ext cx="2857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Object 6"/>
          <p:cNvGraphicFramePr/>
          <p:nvPr/>
        </p:nvGraphicFramePr>
        <p:xfrm>
          <a:off x="5292720" y="3068640"/>
          <a:ext cx="4087800" cy="21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3068640"/>
                    <a:ext cx="40878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Picture 7" descr="http://www.theozonehole.com/images/cfc.jpg"/>
          <p:cNvPicPr/>
          <p:nvPr/>
        </p:nvPicPr>
        <p:blipFill>
          <a:blip r:embed="rId4"/>
          <a:stretch/>
        </p:blipFill>
        <p:spPr>
          <a:xfrm>
            <a:off x="0" y="1916280"/>
            <a:ext cx="5022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AutoShape 2" descr=""/>
          <p:cNvPicPr/>
          <p:nvPr/>
        </p:nvPicPr>
        <p:blipFill>
          <a:blip r:embed="rId1"/>
          <a:stretch/>
        </p:blipFill>
        <p:spPr>
          <a:xfrm>
            <a:off x="-139680" y="469800"/>
            <a:ext cx="4046400" cy="1498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61092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Human activity pu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chlorides and bromide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to the atm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Cold conditions are present in the Polar Regions that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allow the accumulation of the CFC’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Sunligh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reaks down the CFC’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breakdown produc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destroy ozo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ozone is broken into oxygen molecul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Reduced ozone protec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 the strat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401840" y="4218120"/>
            <a:ext cx="7169040" cy="15001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CFC problem may be hard to solve because there are already great quantities of CFCs in the environment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FCs would remain in the stratosphere for another 100 years even if none were ever produced agai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 the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Montreal Protoc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30 nations worldwide agreed to reduce usage of CFCs and encouraged other countries to do so as well (see next slide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utoShape 2" descr=""/>
          <p:cNvPicPr/>
          <p:nvPr/>
        </p:nvPicPr>
        <p:blipFill>
          <a:blip r:embed="rId1"/>
          <a:stretch/>
        </p:blipFill>
        <p:spPr>
          <a:xfrm>
            <a:off x="2054160" y="4359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55640" y="54936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Montreal Protocol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was a convention signed in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1987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y many countries to greatly reduce the production and use of CFCs which prevent further damage to the ozone lay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Since 1987, further amendments to the protocol have imposed and even greater restrictions on the production and use of potentially damaging compound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69800" y="469800"/>
            <a:ext cx="8485200" cy="1498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250560" y="2369880"/>
            <a:ext cx="2305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ce 1987, measurements of Cl compound in the atmosphere have shown a declin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s graph shows the projections with and without the measures for the reduction of these compound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0" name="Picture 2" descr="http://www.environment.gov.au/atmosphere/ozone/legislation/images/montreal-effective-chlorine.gif"/>
          <p:cNvPicPr/>
          <p:nvPr/>
        </p:nvPicPr>
        <p:blipFill>
          <a:blip r:embed="rId2"/>
          <a:stretch/>
        </p:blipFill>
        <p:spPr>
          <a:xfrm>
            <a:off x="2556000" y="1916280"/>
            <a:ext cx="6352920" cy="455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AutoShape 2" descr=""/>
          <p:cNvPicPr/>
          <p:nvPr/>
        </p:nvPicPr>
        <p:blipFill>
          <a:blip r:embed="rId1"/>
          <a:stretch/>
        </p:blipFill>
        <p:spPr>
          <a:xfrm>
            <a:off x="109440" y="-30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100120" y="1916280"/>
            <a:ext cx="407844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s fixed – i.e. closed system for matter, but not energy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Has many function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Protection from cosmic ray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Keeping us war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Maintaining our supply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0" name="Picture 5" descr="http://hdwpapers.com/walls/earth_atmosphere_wallpapers-normal.jpg"/>
          <p:cNvPicPr/>
          <p:nvPr/>
        </p:nvPicPr>
        <p:blipFill>
          <a:blip r:embed="rId2"/>
          <a:stretch/>
        </p:blipFill>
        <p:spPr>
          <a:xfrm>
            <a:off x="324000" y="155736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360" y="1953720"/>
            <a:ext cx="345600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Ground based metho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Weather balloon-borne instrumen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atellite dat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Total Ozone mapping Spectrometer (TOMS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olar Backscatter UV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68000" y="691920"/>
            <a:ext cx="5398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191d34"/>
                </a:solidFill>
                <a:latin typeface="Arial"/>
                <a:ea typeface="Arial"/>
              </a:rPr>
              <a:t>Monitoring Ozone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3" name="Picture 2" descr="http://www.iup.uni-bremen.de/gome/GOME_10y_logo.gif"/>
          <p:cNvPicPr/>
          <p:nvPr/>
        </p:nvPicPr>
        <p:blipFill>
          <a:blip r:embed="rId1"/>
          <a:stretch/>
        </p:blipFill>
        <p:spPr>
          <a:xfrm>
            <a:off x="5143680" y="1571760"/>
            <a:ext cx="2193840" cy="2178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news.spirithit.com/images/uploads/environment_378/10.12.04_satellite_378.jpg"/>
          <p:cNvPicPr/>
          <p:nvPr/>
        </p:nvPicPr>
        <p:blipFill>
          <a:blip r:embed="rId2"/>
          <a:stretch/>
        </p:blipFill>
        <p:spPr>
          <a:xfrm>
            <a:off x="4932360" y="4149720"/>
            <a:ext cx="3029040" cy="21877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"/>
          <p:cNvSpPr/>
          <p:nvPr/>
        </p:nvSpPr>
        <p:spPr>
          <a:xfrm>
            <a:off x="7524720" y="2205000"/>
            <a:ext cx="11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ME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ito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Small steps are being taken to reduce CFCs including the use of alternate propellants i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Refrigeration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Air conditioning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Propellants for spray ca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Using pump action instead of gas propella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AutoShape 2" descr=""/>
          <p:cNvPicPr/>
          <p:nvPr/>
        </p:nvPicPr>
        <p:blipFill>
          <a:blip r:embed="rId1"/>
          <a:stretch/>
        </p:blipFill>
        <p:spPr>
          <a:xfrm>
            <a:off x="901800" y="401760"/>
            <a:ext cx="6956280" cy="2176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95280" y="2276640"/>
            <a:ext cx="619272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You bet! In place of CFCs and Halons we now us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wo main CFC replacements have been developed. They are called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alkanes (HFAs)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or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carbons (HFCs),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and contain only carbon, hydrogen and fluorine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y are non-flammable and chlorine-free, so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they have no impact on the stratospheric ozone layer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 downside – these compounds are believed to be significant </a:t>
            </a:r>
            <a:r>
              <a:rPr b="0" lang="en-US" sz="1700" spc="-1" strike="noStrike">
                <a:solidFill>
                  <a:srgbClr val="ff0000"/>
                </a:solidFill>
                <a:latin typeface="Trebuchet MS"/>
              </a:rPr>
              <a:t>greenhouse gas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90" name="Picture 5" descr="http://meteolcd.files.wordpress.com/2010/12/hfc23_molecule.jpg"/>
          <p:cNvPicPr/>
          <p:nvPr/>
        </p:nvPicPr>
        <p:blipFill>
          <a:blip r:embed="rId2"/>
          <a:stretch/>
        </p:blipFill>
        <p:spPr>
          <a:xfrm>
            <a:off x="6659640" y="3284640"/>
            <a:ext cx="23619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2205000"/>
            <a:ext cx="41655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ydrocarbons</a:t>
            </a:r>
            <a:r>
              <a:rPr b="0" lang="en-US" sz="2400" spc="-1" strike="noStrike">
                <a:solidFill>
                  <a:srgbClr val="4e67c8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ch a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pent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hex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have been put forth as replacements for coolant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Nitrogen ga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(inert) can be used as a blowing agent for substances like styrofoa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93" name="Object 4"/>
          <p:cNvGraphicFramePr/>
          <p:nvPr/>
        </p:nvGraphicFramePr>
        <p:xfrm>
          <a:off x="6300720" y="2565360"/>
          <a:ext cx="1355760" cy="32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2565360"/>
                    <a:ext cx="13557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55280" y="2080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a very thin layer of g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small compared to Earth itsel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3" name="Picture 7" descr="layers"/>
          <p:cNvPicPr/>
          <p:nvPr/>
        </p:nvPicPr>
        <p:blipFill>
          <a:blip r:embed="rId2"/>
          <a:stretch/>
        </p:blipFill>
        <p:spPr>
          <a:xfrm>
            <a:off x="4759200" y="2205000"/>
            <a:ext cx="367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4" descr=""/>
          <p:cNvPicPr/>
          <p:nvPr/>
        </p:nvPicPr>
        <p:blipFill>
          <a:blip r:embed="rId1"/>
          <a:stretch/>
        </p:blipFill>
        <p:spPr>
          <a:xfrm>
            <a:off x="1554120" y="615960"/>
            <a:ext cx="7059600" cy="149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atmosphere"/>
          <p:cNvPicPr/>
          <p:nvPr/>
        </p:nvPicPr>
        <p:blipFill>
          <a:blip r:embed="rId2"/>
          <a:stretch/>
        </p:blipFill>
        <p:spPr>
          <a:xfrm>
            <a:off x="1403280" y="1989000"/>
            <a:ext cx="64612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ext Placeholder 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3346560" cy="7808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684000" y="907920"/>
            <a:ext cx="3778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The lowest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lif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wea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pollution – mainly from human impa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planes f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Text Placeholder 3" descr=""/>
          <p:cNvPicPr/>
          <p:nvPr/>
        </p:nvPicPr>
        <p:blipFill>
          <a:blip r:embed="rId2"/>
          <a:stretch/>
        </p:blipFill>
        <p:spPr>
          <a:xfrm>
            <a:off x="4211640" y="262080"/>
            <a:ext cx="3348000" cy="780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642920" y="907920"/>
            <a:ext cx="3745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the ozone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the Concorde once fle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reenhouse gases a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lobal warming originat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0" name="Picture 5" descr="https://spark.ucar.edu/sites/default/files/images/large_image_for_image_content/troposphere_diagram_big.jpg"/>
          <p:cNvPicPr/>
          <p:nvPr/>
        </p:nvPicPr>
        <p:blipFill>
          <a:blip r:embed="rId3"/>
          <a:stretch/>
        </p:blipFill>
        <p:spPr>
          <a:xfrm>
            <a:off x="1835280" y="3213000"/>
            <a:ext cx="5257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2425680" y="49320"/>
            <a:ext cx="6778800" cy="1498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79280" y="1230480"/>
            <a:ext cx="288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Humans – industry, transport and domestic farm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Particulates: carbon, dust and metals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Gaseous: carbon dioxide, smog, unburnt hydrocarbons, etc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Can be natural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Chief source is volcanic activit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Wildfir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Lightn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5" descr="http://www.nature.nps.gov/air/aqbasics/images/types_of_sources_02-2012.jpg"/>
          <p:cNvPicPr/>
          <p:nvPr/>
        </p:nvPicPr>
        <p:blipFill>
          <a:blip r:embed="rId2"/>
          <a:stretch/>
        </p:blipFill>
        <p:spPr>
          <a:xfrm>
            <a:off x="3059280" y="1484280"/>
            <a:ext cx="587844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AutoShape 2" descr=""/>
          <p:cNvPicPr/>
          <p:nvPr/>
        </p:nvPicPr>
        <p:blipFill>
          <a:blip r:embed="rId1"/>
          <a:stretch/>
        </p:blipFill>
        <p:spPr>
          <a:xfrm>
            <a:off x="139680" y="122400"/>
            <a:ext cx="8693280" cy="12189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316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llotrope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Formed naturall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Oxygen molecule split by UV radi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Unstable Oxygen atom form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tom joins with molecule to form ozo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36" name="Object 5"/>
          <p:cNvGraphicFramePr/>
          <p:nvPr/>
        </p:nvGraphicFramePr>
        <p:xfrm>
          <a:off x="4788000" y="4992840"/>
          <a:ext cx="360036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4992840"/>
                    <a:ext cx="360036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8" name="Picture 9" descr="Ozone Cycle"/>
          <p:cNvPicPr/>
          <p:nvPr/>
        </p:nvPicPr>
        <p:blipFill>
          <a:blip r:embed="rId4"/>
          <a:stretch/>
        </p:blipFill>
        <p:spPr>
          <a:xfrm>
            <a:off x="3635280" y="1341360"/>
            <a:ext cx="501012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3" descr=""/>
          <p:cNvPicPr/>
          <p:nvPr/>
        </p:nvPicPr>
        <p:blipFill>
          <a:blip r:embed="rId1"/>
          <a:stretch/>
        </p:blipFill>
        <p:spPr>
          <a:xfrm>
            <a:off x="1762200" y="4572000"/>
            <a:ext cx="6791400" cy="1547640"/>
          </a:xfrm>
          <a:prstGeom prst="rect">
            <a:avLst/>
          </a:prstGeom>
          <a:ln w="0">
            <a:noFill/>
          </a:ln>
        </p:spPr>
      </p:pic>
      <p:pic>
        <p:nvPicPr>
          <p:cNvPr id="340" name="Text Placeholder 4" descr=""/>
          <p:cNvPicPr/>
          <p:nvPr/>
        </p:nvPicPr>
        <p:blipFill>
          <a:blip r:embed="rId2"/>
          <a:stretch/>
        </p:blipFill>
        <p:spPr>
          <a:xfrm>
            <a:off x="1090440" y="706320"/>
            <a:ext cx="3457800" cy="1397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155600" y="1400040"/>
            <a:ext cx="3348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for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2" name="Text Placeholder 6" descr=""/>
          <p:cNvPicPr/>
          <p:nvPr/>
        </p:nvPicPr>
        <p:blipFill>
          <a:blip r:embed="rId3"/>
          <a:stretch/>
        </p:blipFill>
        <p:spPr>
          <a:xfrm>
            <a:off x="4591080" y="706320"/>
            <a:ext cx="3456000" cy="1397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645080" y="1398600"/>
            <a:ext cx="3346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r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 + coordinate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Lethal to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AutoShape 2" descr=""/>
          <p:cNvPicPr/>
          <p:nvPr/>
        </p:nvPicPr>
        <p:blipFill>
          <a:blip r:embed="rId1"/>
          <a:stretch/>
        </p:blipFill>
        <p:spPr>
          <a:xfrm>
            <a:off x="1981080" y="3975120"/>
            <a:ext cx="6954840" cy="2176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899640" y="731880"/>
            <a:ext cx="7201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nother name for the unstable oxygen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ntains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unpaired electron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in its valence shell of electron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s is an extremely unstable configuration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adicals quickly react with other molecules or radicals to achieve the stable configuration of 4 pairs of electrons in their valence shel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6" name="Picture 5" descr="http://www.bobbyshealthyshop.co.uk/oxygen-atom.jpg"/>
          <p:cNvPicPr/>
          <p:nvPr/>
        </p:nvPicPr>
        <p:blipFill>
          <a:blip r:embed="rId2"/>
          <a:stretch/>
        </p:blipFill>
        <p:spPr>
          <a:xfrm>
            <a:off x="684360" y="364500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3:56:59Z</dcterms:created>
  <dc:creator>Admin</dc:creator>
  <dc:description/>
  <dc:language>en-US</dc:language>
  <cp:lastModifiedBy>Robert Slider</cp:lastModifiedBy>
  <dcterms:modified xsi:type="dcterms:W3CDTF">2013-05-31T03:38:22Z</dcterms:modified>
  <cp:revision>37</cp:revision>
  <dc:subject/>
  <dc:title>Atmosphere</dc:title>
</cp:coreProperties>
</file>