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807-C6B8-4554-9703-8C856EE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EA2-565F-4592-9CA4-8D99EDE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B8A-F054-4475-AA89-6D895BFF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BBE-D557-46CE-930D-5556448E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452-D6F7-4FE6-BC64-8027B72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8B8-72DA-48BB-9D9F-2508BE9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1D5-81CA-490C-98C2-BBD9639E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D79-495B-45D1-B7FC-B501066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B01-B482-4B4D-BABC-C4F34D3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998-5719-438D-8D65-64CE39F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CA5-0440-4C20-A5CF-57E8B561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C85-1285-4DF5-88E1-F398C23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7BA2-F791-4908-9DAA-442C4C95C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0:36:02Z</dcterms:created>
  <dc:creator>peter_carson</dc:creator>
  <dc:description/>
  <dc:language>en-US</dc:language>
  <cp:lastModifiedBy>peter_carson</cp:lastModifiedBy>
  <dcterms:modified xsi:type="dcterms:W3CDTF">2008-12-09T00:36:16Z</dcterms:modified>
  <cp:revision>1</cp:revision>
  <dc:subject/>
  <dc:title>Slide 1</dc:title>
</cp:coreProperties>
</file>