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799-D092-4DD1-8320-313D9F45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83C-782F-47DD-9602-1F67FDB6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DAF-7B40-4E4D-AA1D-9D220479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9F0-70F7-4B43-8E31-15D0D296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C27-7548-46EE-9A74-9464741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468-45D7-4BF6-8AB7-5CC8E590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32C-A70F-4880-9DB8-81EDB86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CD3-8D6A-4A93-AED3-5A2A470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C7E-BAB7-40B7-AA2C-221D25C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CF4-F116-42B2-B0FD-8F311DCC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2A0-390B-493D-9BC4-5560C9A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C55-888F-4ACD-AA77-517A052F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02E1-5597-4506-92FF-5869719AF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0:36:02Z</dcterms:created>
  <dc:creator>peter_carson</dc:creator>
  <dc:description/>
  <dc:language>en-US</dc:language>
  <cp:lastModifiedBy>peter_carson</cp:lastModifiedBy>
  <dcterms:modified xsi:type="dcterms:W3CDTF">2008-12-09T00:36:16Z</dcterms:modified>
  <cp:revision>1</cp:revision>
  <dc:subject/>
  <dc:title>Slide 1</dc:title>
</cp:coreProperties>
</file>