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2470-707E-4B5A-AFEE-D0E1D5E36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18F9-35D2-4D44-97EE-762CED30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4CBE-A9A3-4DA6-B1EA-711116777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F83B-B828-465C-8293-C6E33DE73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60F1-FB80-4122-BC07-AB8018AA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7227-DED4-48EC-91D6-3DF4E941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F712-6630-4EBF-A53A-45BF8B6F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C927-DFF1-499E-831D-41496B9E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F594-A891-4B51-9A94-E07168B6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6C90-4253-41C4-A47D-E45B00AB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59C1-33CF-43DF-A4A3-7CE8573A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AAB5-DABA-4BDA-9A1A-2820FA10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D21F-50C3-4AA6-B971-572F5BD00C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10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11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12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13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14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15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16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17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18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19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5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6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7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8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9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00:36:02Z</dcterms:created>
  <dc:creator>peter_carson</dc:creator>
  <dc:description/>
  <dc:language>en-US</dc:language>
  <cp:lastModifiedBy>peter_carson</cp:lastModifiedBy>
  <dcterms:modified xsi:type="dcterms:W3CDTF">2008-12-09T00:36:16Z</dcterms:modified>
  <cp:revision>1</cp:revision>
  <dc:subject/>
  <dc:title>Slide 1</dc:title>
</cp:coreProperties>
</file>