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4268-C013-4405-A5FE-2C81AC06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038B-02F2-4726-8500-99C5275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617D-51DE-4401-AB94-F9E11ABD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D532-4A8B-47FA-8329-D686799A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7F83-5B4E-4804-BE58-10F0BB3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1E75-82BE-445D-A4BC-6A2B2F41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B57D-81E6-4CAA-89F5-B46CBC0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066B-F59F-453F-A86D-1C725D5F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6388-A4C5-4AC7-ABFD-2A29A902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7343-5A4F-4869-9F9A-B45982F2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6FD5-87DE-42BD-8B74-4539D41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F942-584E-4497-92DE-3C58B20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C2B-2665-49C6-9D79-E0D19415CD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76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itration Graph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47D-F726-43CF-98F4-8395800F20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1763640" y="1700280"/>
            <a:ext cx="7129440" cy="4330800"/>
            <a:chOff x="1763640" y="1700280"/>
            <a:chExt cx="7129440" cy="4330800"/>
          </a:xfrm>
        </p:grpSpPr>
        <p:grpSp>
          <p:nvGrpSpPr>
            <p:cNvPr id="141" name="Group 23"/>
            <p:cNvGrpSpPr/>
            <p:nvPr/>
          </p:nvGrpSpPr>
          <p:grpSpPr>
            <a:xfrm>
              <a:off x="1763640" y="1700280"/>
              <a:ext cx="7129440" cy="4330800"/>
              <a:chOff x="1763640" y="1700280"/>
              <a:chExt cx="7129440" cy="4330800"/>
            </a:xfrm>
          </p:grpSpPr>
          <p:grpSp>
            <p:nvGrpSpPr>
              <p:cNvPr id="142" name="Group 22"/>
              <p:cNvGrpSpPr/>
              <p:nvPr/>
            </p:nvGrpSpPr>
            <p:grpSpPr>
              <a:xfrm>
                <a:off x="1763640" y="1700280"/>
                <a:ext cx="7129440" cy="4330800"/>
                <a:chOff x="1763640" y="1700280"/>
                <a:chExt cx="7129440" cy="4330800"/>
              </a:xfrm>
            </p:grpSpPr>
            <p:pic>
              <p:nvPicPr>
                <p:cNvPr id="143" name="Picture 9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63640" y="1700280"/>
                  <a:ext cx="7129440" cy="433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Rectangle 19"/>
                <p:cNvSpPr/>
                <p:nvPr/>
              </p:nvSpPr>
              <p:spPr>
                <a:xfrm>
                  <a:off x="2916360" y="1700280"/>
                  <a:ext cx="331128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Rectangle 20"/>
              <p:cNvSpPr/>
              <p:nvPr/>
            </p:nvSpPr>
            <p:spPr>
              <a:xfrm>
                <a:off x="2771640" y="3860640"/>
                <a:ext cx="3240360" cy="43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Rectangle 21"/>
            <p:cNvSpPr/>
            <p:nvPr/>
          </p:nvSpPr>
          <p:spPr>
            <a:xfrm>
              <a:off x="5823000" y="4406760"/>
              <a:ext cx="236520" cy="86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443640" y="220500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13680" y="1916280"/>
            <a:ext cx="23839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44400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23636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6084720" y="3500280"/>
            <a:ext cx="273528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6"/>
          <p:cNvSpPr/>
          <p:nvPr/>
        </p:nvSpPr>
        <p:spPr>
          <a:xfrm>
            <a:off x="2484360" y="2205000"/>
            <a:ext cx="503280" cy="71928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2987280" y="2349360"/>
            <a:ext cx="3261240" cy="916920"/>
            <a:chOff x="2987280" y="2349360"/>
            <a:chExt cx="3261240" cy="916920"/>
          </a:xfrm>
        </p:grpSpPr>
        <p:sp>
          <p:nvSpPr>
            <p:cNvPr id="155" name="Text Box 27"/>
            <p:cNvSpPr/>
            <p:nvPr/>
          </p:nvSpPr>
          <p:spPr>
            <a:xfrm>
              <a:off x="3348000" y="234936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fall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H="1">
              <a:off x="2987280" y="2565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29"/>
          <p:cNvSpPr/>
          <p:nvPr/>
        </p:nvSpPr>
        <p:spPr>
          <a:xfrm>
            <a:off x="2700360" y="3068640"/>
            <a:ext cx="2900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l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6243480" y="3068640"/>
            <a:ext cx="25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cidic because ammonium ion is slightly acid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6040440" y="4005360"/>
            <a:ext cx="0" cy="1295280"/>
          </a:xfrm>
          <a:prstGeom prst="line">
            <a:avLst/>
          </a:prstGeom>
          <a:ln w="255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 flipH="1">
            <a:off x="2556000" y="400536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6239880" y="4282560"/>
            <a:ext cx="2481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+ 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34"/>
          <p:cNvSpPr/>
          <p:nvPr/>
        </p:nvSpPr>
        <p:spPr>
          <a:xfrm>
            <a:off x="8101080" y="4292640"/>
            <a:ext cx="647640" cy="36036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7"/>
          <p:cNvGrpSpPr/>
          <p:nvPr/>
        </p:nvGrpSpPr>
        <p:grpSpPr>
          <a:xfrm>
            <a:off x="2700360" y="1773360"/>
            <a:ext cx="3043080" cy="647640"/>
            <a:chOff x="2700360" y="1773360"/>
            <a:chExt cx="3043080" cy="647640"/>
          </a:xfrm>
        </p:grpSpPr>
        <p:sp>
          <p:nvSpPr>
            <p:cNvPr id="164" name="Text Box 25"/>
            <p:cNvSpPr/>
            <p:nvPr/>
          </p:nvSpPr>
          <p:spPr>
            <a:xfrm>
              <a:off x="2843280" y="1773360"/>
              <a:ext cx="29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Weak base so initial pH value is less than 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 flipH="1">
              <a:off x="2700360" y="1989000"/>
              <a:ext cx="21600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3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167" name="Picture 3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4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4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84A-DFE3-4F39-835B-82EE5D6F90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8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6551640" cy="45594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74" name="Picture 36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7"/>
          <p:cNvSpPr/>
          <p:nvPr/>
        </p:nvSpPr>
        <p:spPr>
          <a:xfrm>
            <a:off x="614160" y="29242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1344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555640" y="4365720"/>
            <a:ext cx="3116520" cy="863640"/>
            <a:chOff x="2555640" y="4365720"/>
            <a:chExt cx="3116520" cy="863640"/>
          </a:xfrm>
        </p:grpSpPr>
        <p:sp>
          <p:nvSpPr>
            <p:cNvPr id="178" name="Text Box 40"/>
            <p:cNvSpPr/>
            <p:nvPr/>
          </p:nvSpPr>
          <p:spPr>
            <a:xfrm>
              <a:off x="2771640" y="4365720"/>
              <a:ext cx="2900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Excess of acid present – graph same as when adding strong acid to strong alka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1"/>
            <p:cNvSpPr/>
            <p:nvPr/>
          </p:nvSpPr>
          <p:spPr>
            <a:xfrm flipH="1">
              <a:off x="2555640" y="4797360"/>
              <a:ext cx="21564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Text Box 42"/>
          <p:cNvSpPr/>
          <p:nvPr/>
        </p:nvSpPr>
        <p:spPr>
          <a:xfrm>
            <a:off x="4427640" y="1773360"/>
            <a:ext cx="2900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After equivalence point the soln contains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l – a buffer soln and so resists large increse in pH so graph flattens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797-B338-4D53-B8B2-8DEFD7F8A0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4932360" y="2205000"/>
            <a:ext cx="3816360" cy="2656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85" name="Picture 4" descr="http://www.chemguide.co.uk/physical/acidbaseeqia/sawb1.gif"/>
          <p:cNvPicPr/>
          <p:nvPr/>
        </p:nvPicPr>
        <p:blipFill>
          <a:blip r:embed="rId2"/>
          <a:stretch/>
        </p:blipFill>
        <p:spPr>
          <a:xfrm>
            <a:off x="324000" y="2205000"/>
            <a:ext cx="3743280" cy="26179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86" name="Text Box 9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AF93-0E22-4CD2-899C-49B09EFC17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2924280"/>
            <a:ext cx="833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A723-EED9-40FB-9332-8E0B93FA10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37"/>
          <p:cNvGrpSpPr/>
          <p:nvPr/>
        </p:nvGrpSpPr>
        <p:grpSpPr>
          <a:xfrm>
            <a:off x="1809720" y="1557360"/>
            <a:ext cx="7333920" cy="4540320"/>
            <a:chOff x="1809720" y="1557360"/>
            <a:chExt cx="7333920" cy="4540320"/>
          </a:xfrm>
        </p:grpSpPr>
        <p:pic>
          <p:nvPicPr>
            <p:cNvPr id="200" name="Picture 32" descr="http://www.chemguide.co.uk/physical/acidbaseeqia/wasb1.gif"/>
            <p:cNvPicPr/>
            <p:nvPr/>
          </p:nvPicPr>
          <p:blipFill>
            <a:blip r:embed="rId1"/>
            <a:stretch/>
          </p:blipFill>
          <p:spPr>
            <a:xfrm>
              <a:off x="1809720" y="1557360"/>
              <a:ext cx="733392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4"/>
            <p:cNvSpPr/>
            <p:nvPr/>
          </p:nvSpPr>
          <p:spPr>
            <a:xfrm>
              <a:off x="6281640" y="2565360"/>
              <a:ext cx="2770560" cy="64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940360" y="1844640"/>
            <a:ext cx="151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236200" y="1557360"/>
            <a:ext cx="38941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012360" y="2133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6804360" y="213372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6243480" y="4076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924360" y="3068640"/>
            <a:ext cx="25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lkaline because ethanoate ion is slightly alka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 flipV="1">
            <a:off x="6207120" y="2923920"/>
            <a:ext cx="0" cy="237636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 flipH="1">
            <a:off x="2627280" y="292428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2926440" y="4485600"/>
            <a:ext cx="3173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20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H +  OH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13" name="Picture 2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3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8"/>
          <p:cNvGrpSpPr/>
          <p:nvPr/>
        </p:nvGrpSpPr>
        <p:grpSpPr>
          <a:xfrm>
            <a:off x="2771280" y="1700280"/>
            <a:ext cx="3259800" cy="1184400"/>
            <a:chOff x="2771280" y="1700280"/>
            <a:chExt cx="3259800" cy="1184400"/>
          </a:xfrm>
        </p:grpSpPr>
        <p:sp>
          <p:nvSpPr>
            <p:cNvPr id="217" name="Text Box 34"/>
            <p:cNvSpPr/>
            <p:nvPr/>
          </p:nvSpPr>
          <p:spPr>
            <a:xfrm>
              <a:off x="2987640" y="2060640"/>
              <a:ext cx="304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33"/>
                  </a:solidFill>
                  <a:latin typeface="Arial"/>
                </a:rPr>
                <a:t>Excess of alkali present – graph same as when adding strong acid to strong alka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35"/>
            <p:cNvSpPr/>
            <p:nvPr/>
          </p:nvSpPr>
          <p:spPr>
            <a:xfrm flipH="1" flipV="1">
              <a:off x="2771280" y="1700280"/>
              <a:ext cx="287640" cy="79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A8AB-3AA3-4DFD-ADB3-42AF09C1C8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http://www.chemguide.co.uk/physical/acidbaseeqia/was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7127640" cy="449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31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24" name="Picture 16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7"/>
            <p:cNvSpPr/>
            <p:nvPr/>
          </p:nvSpPr>
          <p:spPr>
            <a:xfrm>
              <a:off x="614160" y="292428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13440" y="47973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23"/>
          <p:cNvGrpSpPr/>
          <p:nvPr/>
        </p:nvGrpSpPr>
        <p:grpSpPr>
          <a:xfrm>
            <a:off x="2700000" y="4365720"/>
            <a:ext cx="3261240" cy="916920"/>
            <a:chOff x="2700000" y="4365720"/>
            <a:chExt cx="3261240" cy="916920"/>
          </a:xfrm>
        </p:grpSpPr>
        <p:sp>
          <p:nvSpPr>
            <p:cNvPr id="228" name="Text Box 24"/>
            <p:cNvSpPr/>
            <p:nvPr/>
          </p:nvSpPr>
          <p:spPr>
            <a:xfrm>
              <a:off x="3060720" y="436572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rise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5"/>
            <p:cNvSpPr/>
            <p:nvPr/>
          </p:nvSpPr>
          <p:spPr>
            <a:xfrm flipH="1">
              <a:off x="2700000" y="4581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27"/>
          <p:cNvSpPr/>
          <p:nvPr/>
        </p:nvSpPr>
        <p:spPr>
          <a:xfrm>
            <a:off x="2700360" y="2852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rise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3059280" y="1557360"/>
            <a:ext cx="29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Excess of alkali present – graph same as when adding strong alkali to strong ac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5364000" y="1844280"/>
            <a:ext cx="1008360" cy="28908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275-AF04-47A6-B343-71662F4F03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www.chemguide.co.uk/physical/acidbaseeqia/wasb1.gif"/>
          <p:cNvPicPr/>
          <p:nvPr/>
        </p:nvPicPr>
        <p:blipFill>
          <a:blip r:embed="rId1"/>
          <a:stretch/>
        </p:blipFill>
        <p:spPr>
          <a:xfrm>
            <a:off x="468360" y="2276640"/>
            <a:ext cx="3657600" cy="25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www.chemguide.co.uk/physical/acidbaseeqia/wasb2.gif"/>
          <p:cNvPicPr/>
          <p:nvPr/>
        </p:nvPicPr>
        <p:blipFill>
          <a:blip r:embed="rId2"/>
          <a:stretch/>
        </p:blipFill>
        <p:spPr>
          <a:xfrm>
            <a:off x="5076720" y="2276640"/>
            <a:ext cx="3667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B64-FBA2-4D49-9803-605ECC9E01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3840" y="2924280"/>
            <a:ext cx="754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88E9-FD20-422F-81F7-6B95022FEB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53" name="Picture 8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11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3276720" y="1773360"/>
            <a:ext cx="47512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276720" y="2205000"/>
            <a:ext cx="475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About as weak as each other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5580000" y="2852640"/>
            <a:ext cx="3311640" cy="136836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2195640" y="3284640"/>
            <a:ext cx="576000" cy="57600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0B05-7D29-461B-9E23-43CF8DC076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65" name="Picture 4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7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3348000" y="2060640"/>
            <a:ext cx="47512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o steep section – small addition of acid causes a large change in pH, s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771640" y="3789360"/>
            <a:ext cx="30243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Very difficult to do a titration between a weak acid and a weak 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F4A-DA07-4822-8D69-0459D7E191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8120" y="2997360"/>
            <a:ext cx="62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724360" y="2924280"/>
            <a:ext cx="216072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2004-2F8B-4E15-A48D-F543AF9F65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" descr="summary"/>
          <p:cNvPicPr/>
          <p:nvPr/>
        </p:nvPicPr>
        <p:blipFill>
          <a:blip r:embed="rId1"/>
          <a:stretch/>
        </p:blipFill>
        <p:spPr>
          <a:xfrm>
            <a:off x="1547640" y="1413000"/>
            <a:ext cx="6769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79E-881D-4984-B02D-C2B1ACB00B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036880" y="3952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132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356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495600" y="429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2771640" y="479736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hydrochloric acid required to reach the equivalence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drochloric acid and sodium 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22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192-52A1-4DE4-B601-3B691C56E2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5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295" name="Group 29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297" name="Picture 31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298" name="Rectangle 32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Rectangle 33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4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Oval 37"/>
          <p:cNvSpPr/>
          <p:nvPr/>
        </p:nvSpPr>
        <p:spPr>
          <a:xfrm>
            <a:off x="3490920" y="278136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27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303" name="Group 26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pic>
            <p:nvPicPr>
              <p:cNvPr id="304" name="Picture 16" descr="http://www.chemguide.co.uk/physical/acidbaseeqia/sawb1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625560"/>
              </a:xfrm>
              <a:prstGeom prst="rect">
                <a:avLst/>
              </a:prstGeom>
              <a:ln w="9360">
                <a:solidFill>
                  <a:srgbClr val="ccffff"/>
                </a:solidFill>
                <a:miter/>
              </a:ln>
            </p:spPr>
          </p:pic>
          <p:sp>
            <p:nvSpPr>
              <p:cNvPr id="305" name="Rectangle 25"/>
              <p:cNvSpPr/>
              <p:nvPr/>
            </p:nvSpPr>
            <p:spPr>
              <a:xfrm>
                <a:off x="5724360" y="5229000"/>
                <a:ext cx="432000" cy="360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ccffcc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7"/>
            <p:cNvSpPr/>
            <p:nvPr/>
          </p:nvSpPr>
          <p:spPr>
            <a:xfrm>
              <a:off x="3708360" y="2133720"/>
              <a:ext cx="2881440" cy="79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7" name="Picture 3" descr="titration"/>
          <p:cNvPicPr/>
          <p:nvPr/>
        </p:nvPicPr>
        <p:blipFill>
          <a:blip r:embed="rId3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3564000" y="2421000"/>
            <a:ext cx="151128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weak base, CO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2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037-5011-40BE-B22E-D36D018EBF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15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39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29" name="Group 32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pic>
            <p:nvPicPr>
              <p:cNvPr id="330" name="Picture 26" descr="http://www.chemguide.co.uk/physical/acidbaseeqia/carbtitrate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57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Rectangle 27"/>
              <p:cNvSpPr/>
              <p:nvPr/>
            </p:nvSpPr>
            <p:spPr>
              <a:xfrm>
                <a:off x="4211640" y="220500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8"/>
              <p:cNvSpPr/>
              <p:nvPr/>
            </p:nvSpPr>
            <p:spPr>
              <a:xfrm>
                <a:off x="5580000" y="2637000"/>
                <a:ext cx="2376720" cy="936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5095800" y="3116160"/>
                <a:ext cx="574920" cy="358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5183280" y="256068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31"/>
              <p:cNvSpPr/>
              <p:nvPr/>
            </p:nvSpPr>
            <p:spPr>
              <a:xfrm>
                <a:off x="6659640" y="3933720"/>
                <a:ext cx="720720" cy="647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Rectangle 33"/>
            <p:cNvSpPr/>
            <p:nvPr/>
          </p:nvSpPr>
          <p:spPr>
            <a:xfrm>
              <a:off x="3562200" y="3400560"/>
              <a:ext cx="1505160" cy="12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34"/>
            <p:cNvSpPr/>
            <p:nvPr/>
          </p:nvSpPr>
          <p:spPr>
            <a:xfrm>
              <a:off x="4989600" y="4113360"/>
              <a:ext cx="1574640" cy="1038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5"/>
            <p:cNvSpPr/>
            <p:nvPr/>
          </p:nvSpPr>
          <p:spPr>
            <a:xfrm>
              <a:off x="4941720" y="3429000"/>
              <a:ext cx="154080" cy="72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6"/>
            <p:cNvSpPr/>
            <p:nvPr/>
          </p:nvSpPr>
          <p:spPr>
            <a:xfrm>
              <a:off x="6496200" y="4581360"/>
              <a:ext cx="144360" cy="565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37"/>
            <p:cNvSpPr/>
            <p:nvPr/>
          </p:nvSpPr>
          <p:spPr>
            <a:xfrm>
              <a:off x="5043600" y="3367080"/>
              <a:ext cx="104760" cy="13320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8"/>
            <p:cNvSpPr/>
            <p:nvPr/>
          </p:nvSpPr>
          <p:spPr>
            <a:xfrm>
              <a:off x="6616800" y="4464000"/>
              <a:ext cx="25200" cy="2095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2" name="Picture 43" descr="question"/>
          <p:cNvPicPr/>
          <p:nvPr/>
        </p:nvPicPr>
        <p:blipFill>
          <a:blip r:embed="rId3"/>
          <a:stretch/>
        </p:blipFill>
        <p:spPr>
          <a:xfrm>
            <a:off x="6588000" y="2421000"/>
            <a:ext cx="7527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672-81A9-4AA7-A325-52FF7BFFD6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1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46" name="Group 10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grpSp>
            <p:nvGrpSpPr>
              <p:cNvPr id="347" name="Group 11"/>
              <p:cNvGrpSpPr/>
              <p:nvPr/>
            </p:nvGrpSpPr>
            <p:grpSpPr>
              <a:xfrm>
                <a:off x="2843280" y="2133720"/>
                <a:ext cx="5184720" cy="3570120"/>
                <a:chOff x="2843280" y="2133720"/>
                <a:chExt cx="5184720" cy="3570120"/>
              </a:xfrm>
            </p:grpSpPr>
            <p:pic>
              <p:nvPicPr>
                <p:cNvPr id="348" name="Picture 12" descr="http://www.chemguide.co.uk/physical/acidbaseeqia/carbtitrate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57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Rectangle 13"/>
                <p:cNvSpPr/>
                <p:nvPr/>
              </p:nvSpPr>
              <p:spPr>
                <a:xfrm>
                  <a:off x="4211640" y="220500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4"/>
                <p:cNvSpPr/>
                <p:nvPr/>
              </p:nvSpPr>
              <p:spPr>
                <a:xfrm>
                  <a:off x="5580000" y="2637000"/>
                  <a:ext cx="2376720" cy="936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15"/>
                <p:cNvSpPr/>
                <p:nvPr/>
              </p:nvSpPr>
              <p:spPr>
                <a:xfrm>
                  <a:off x="5095800" y="3116160"/>
                  <a:ext cx="574920" cy="358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16"/>
                <p:cNvSpPr/>
                <p:nvPr/>
              </p:nvSpPr>
              <p:spPr>
                <a:xfrm>
                  <a:off x="5183280" y="256068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17"/>
                <p:cNvSpPr/>
                <p:nvPr/>
              </p:nvSpPr>
              <p:spPr>
                <a:xfrm>
                  <a:off x="6659640" y="3933720"/>
                  <a:ext cx="720720" cy="647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Rectangle 18"/>
              <p:cNvSpPr/>
              <p:nvPr/>
            </p:nvSpPr>
            <p:spPr>
              <a:xfrm>
                <a:off x="3562200" y="3400560"/>
                <a:ext cx="1505160" cy="12477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19"/>
              <p:cNvSpPr/>
              <p:nvPr/>
            </p:nvSpPr>
            <p:spPr>
              <a:xfrm>
                <a:off x="4989600" y="4113360"/>
                <a:ext cx="1574640" cy="1038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20"/>
              <p:cNvSpPr/>
              <p:nvPr/>
            </p:nvSpPr>
            <p:spPr>
              <a:xfrm>
                <a:off x="4941720" y="3429000"/>
                <a:ext cx="154080" cy="720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21"/>
              <p:cNvSpPr/>
              <p:nvPr/>
            </p:nvSpPr>
            <p:spPr>
              <a:xfrm>
                <a:off x="6496200" y="4581360"/>
                <a:ext cx="144360" cy="56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"/>
              <p:cNvSpPr/>
              <p:nvPr/>
            </p:nvSpPr>
            <p:spPr>
              <a:xfrm>
                <a:off x="5043600" y="3367080"/>
                <a:ext cx="104760" cy="13320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3"/>
              <p:cNvSpPr/>
              <p:nvPr/>
            </p:nvSpPr>
            <p:spPr>
              <a:xfrm>
                <a:off x="6616800" y="4464000"/>
                <a:ext cx="25200" cy="20952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Rectangle 39"/>
            <p:cNvSpPr/>
            <p:nvPr/>
          </p:nvSpPr>
          <p:spPr>
            <a:xfrm>
              <a:off x="4859280" y="5229360"/>
              <a:ext cx="43344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0"/>
            <p:cNvSpPr/>
            <p:nvPr/>
          </p:nvSpPr>
          <p:spPr>
            <a:xfrm>
              <a:off x="6372360" y="5229360"/>
              <a:ext cx="43308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2" name="Picture 2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28"/>
          <p:cNvSpPr/>
          <p:nvPr/>
        </p:nvSpPr>
        <p:spPr>
          <a:xfrm>
            <a:off x="5148360" y="3141720"/>
            <a:ext cx="36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29"/>
          <p:cNvSpPr/>
          <p:nvPr/>
        </p:nvSpPr>
        <p:spPr>
          <a:xfrm>
            <a:off x="6732720" y="4221000"/>
            <a:ext cx="36036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3564000" y="4412880"/>
            <a:ext cx="3049200" cy="731880"/>
            <a:chOff x="3564000" y="4412880"/>
            <a:chExt cx="3049200" cy="731880"/>
          </a:xfrm>
        </p:grpSpPr>
        <p:sp>
          <p:nvSpPr>
            <p:cNvPr id="373" name="Line 31"/>
            <p:cNvSpPr/>
            <p:nvPr/>
          </p:nvSpPr>
          <p:spPr>
            <a:xfrm flipH="1" flipV="1">
              <a:off x="6609960" y="4412880"/>
              <a:ext cx="3240" cy="73188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32"/>
            <p:cNvSpPr/>
            <p:nvPr/>
          </p:nvSpPr>
          <p:spPr>
            <a:xfrm flipH="1">
              <a:off x="3564000" y="4437000"/>
              <a:ext cx="302400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42"/>
          <p:cNvGrpSpPr/>
          <p:nvPr/>
        </p:nvGrpSpPr>
        <p:grpSpPr>
          <a:xfrm>
            <a:off x="3564000" y="3357720"/>
            <a:ext cx="1512720" cy="1800000"/>
            <a:chOff x="3564000" y="3357720"/>
            <a:chExt cx="1512720" cy="1800000"/>
          </a:xfrm>
        </p:grpSpPr>
        <p:sp>
          <p:nvSpPr>
            <p:cNvPr id="376" name="Line 30"/>
            <p:cNvSpPr/>
            <p:nvPr/>
          </p:nvSpPr>
          <p:spPr>
            <a:xfrm flipV="1">
              <a:off x="5076720" y="3357720"/>
              <a:ext cx="0" cy="180000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 flipH="1">
              <a:off x="3564000" y="3357720"/>
              <a:ext cx="151272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Freeform 34"/>
          <p:cNvSpPr/>
          <p:nvPr/>
        </p:nvSpPr>
        <p:spPr>
          <a:xfrm>
            <a:off x="3548160" y="2881440"/>
            <a:ext cx="1514520" cy="47628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5"/>
          <p:cNvSpPr/>
          <p:nvPr/>
        </p:nvSpPr>
        <p:spPr>
          <a:xfrm>
            <a:off x="5043600" y="3343320"/>
            <a:ext cx="1569960" cy="10857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36"/>
          <p:cNvSpPr/>
          <p:nvPr/>
        </p:nvSpPr>
        <p:spPr>
          <a:xfrm>
            <a:off x="6620040" y="4433760"/>
            <a:ext cx="838080" cy="5875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3780000" y="242100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firs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5508720" y="314172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nex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486144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637452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6"/>
          <p:cNvSpPr/>
          <p:nvPr/>
        </p:nvSpPr>
        <p:spPr>
          <a:xfrm>
            <a:off x="680400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excess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4895-F513-4132-9B85-522E7C0CC2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10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391" name="Group 11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392" name="Picture 12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Rectangle 13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6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7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Rectangle 18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2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3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Oval 24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5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Freeform 3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2843280" y="227664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5"/>
          <p:cNvSpPr/>
          <p:nvPr/>
        </p:nvSpPr>
        <p:spPr>
          <a:xfrm>
            <a:off x="2627280" y="3645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2250-04A4-4660-BACA-B9DBF4F417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415" name="Group 5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416" name="Picture 6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7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8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Rectangle 12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Oval 18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500720" y="170028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427640" y="1989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4427640" y="2421000"/>
            <a:ext cx="374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>
            <a:off x="4211640" y="2349360"/>
            <a:ext cx="3816360" cy="0"/>
          </a:xfrm>
          <a:prstGeom prst="line">
            <a:avLst/>
          </a:prstGeom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V="1">
            <a:off x="4427640" y="206028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 flipV="1">
            <a:off x="6877080" y="177300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DC0-F4C7-4B0C-BD22-50EAAFA365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848320" y="256536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27672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2846520" y="285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619280" y="3860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sodium hydroxide required to reach the equivalenc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hanedioic acid and sod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17" descr="oxionise"/>
          <p:cNvPicPr/>
          <p:nvPr/>
        </p:nvPicPr>
        <p:blipFill>
          <a:blip r:embed="rId2"/>
          <a:srcRect l="0" t="0" r="80208" b="-5509"/>
          <a:stretch/>
        </p:blipFill>
        <p:spPr>
          <a:xfrm>
            <a:off x="2987640" y="4724280"/>
            <a:ext cx="1224000" cy="1113120"/>
          </a:xfrm>
          <a:prstGeom prst="rect">
            <a:avLst/>
          </a:prstGeom>
          <a:ln w="0">
            <a:noFill/>
          </a:ln>
        </p:spPr>
      </p:pic>
      <p:sp>
        <p:nvSpPr>
          <p:cNvPr id="455" name="Oval 18"/>
          <p:cNvSpPr/>
          <p:nvPr/>
        </p:nvSpPr>
        <p:spPr>
          <a:xfrm>
            <a:off x="3708360" y="465300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3708360" y="537372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4284720" y="4724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hydrogen ions can be formed per molecule of the acid.  It is a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19928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IPROT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EB9-2F1E-4176-9A4F-410FA40696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2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462" name="Group 3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463" name="Group 4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464" name="Picture 5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465" name="Rectangle 6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Rectangle 7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Rectangle 8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Oval 9"/>
          <p:cNvSpPr/>
          <p:nvPr/>
        </p:nvSpPr>
        <p:spPr>
          <a:xfrm>
            <a:off x="3492360" y="486900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5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1116000" y="4941720"/>
            <a:ext cx="14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3851280" y="4653000"/>
            <a:ext cx="165744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fairly strong ac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1258920" y="3141720"/>
            <a:ext cx="1295280" cy="179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sodium hydroxide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3276720" y="10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1547640" y="1052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Group 31"/>
          <p:cNvGrpSpPr/>
          <p:nvPr/>
        </p:nvGrpSpPr>
        <p:grpSpPr>
          <a:xfrm>
            <a:off x="2843280" y="2133720"/>
            <a:ext cx="5184720" cy="3644640"/>
            <a:chOff x="2843280" y="2133720"/>
            <a:chExt cx="5184720" cy="3644640"/>
          </a:xfrm>
        </p:grpSpPr>
        <p:pic>
          <p:nvPicPr>
            <p:cNvPr id="482" name="Picture 29" descr="http://www.chemguide.co.uk/physical/acidbaseeqia/sasb2.gif"/>
            <p:cNvPicPr/>
            <p:nvPr/>
          </p:nvPicPr>
          <p:blipFill>
            <a:blip r:embed="rId3"/>
            <a:stretch/>
          </p:blipFill>
          <p:spPr>
            <a:xfrm>
              <a:off x="2843280" y="2133720"/>
              <a:ext cx="5184720" cy="36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30"/>
            <p:cNvSpPr/>
            <p:nvPr/>
          </p:nvSpPr>
          <p:spPr>
            <a:xfrm>
              <a:off x="5706000" y="5176800"/>
              <a:ext cx="4338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4" name="Picture 25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1EF-47C2-4A9C-97D1-FA2E5CCC96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52"/>
          <p:cNvGrpSpPr/>
          <p:nvPr/>
        </p:nvGrpSpPr>
        <p:grpSpPr>
          <a:xfrm>
            <a:off x="2627280" y="1989000"/>
            <a:ext cx="5400720" cy="4065480"/>
            <a:chOff x="2627280" y="1989000"/>
            <a:chExt cx="5400720" cy="4065480"/>
          </a:xfrm>
        </p:grpSpPr>
        <p:grpSp>
          <p:nvGrpSpPr>
            <p:cNvPr id="488" name="Group 46"/>
            <p:cNvGrpSpPr/>
            <p:nvPr/>
          </p:nvGrpSpPr>
          <p:grpSpPr>
            <a:xfrm>
              <a:off x="2627280" y="1989000"/>
              <a:ext cx="5400720" cy="4065480"/>
              <a:chOff x="2627280" y="1989000"/>
              <a:chExt cx="5400720" cy="4065480"/>
            </a:xfrm>
          </p:grpSpPr>
          <p:grpSp>
            <p:nvGrpSpPr>
              <p:cNvPr id="489" name="Group 39"/>
              <p:cNvGrpSpPr/>
              <p:nvPr/>
            </p:nvGrpSpPr>
            <p:grpSpPr>
              <a:xfrm>
                <a:off x="2627280" y="1989000"/>
                <a:ext cx="5400720" cy="4065480"/>
                <a:chOff x="2627280" y="1989000"/>
                <a:chExt cx="5400720" cy="4065480"/>
              </a:xfrm>
            </p:grpSpPr>
            <p:pic>
              <p:nvPicPr>
                <p:cNvPr id="490" name="Picture 35" descr="http://www.chemguide.co.uk/physical/acidbaseeqia/oxtitration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27280" y="1989000"/>
                  <a:ext cx="5400720" cy="406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91" name="Group 38"/>
                <p:cNvGrpSpPr/>
                <p:nvPr/>
              </p:nvGrpSpPr>
              <p:grpSpPr>
                <a:xfrm>
                  <a:off x="3564000" y="2852640"/>
                  <a:ext cx="2087640" cy="2089080"/>
                  <a:chOff x="3564000" y="2852640"/>
                  <a:chExt cx="2087640" cy="2089080"/>
                </a:xfrm>
              </p:grpSpPr>
              <p:sp>
                <p:nvSpPr>
                  <p:cNvPr id="492" name="Rectangle 36"/>
                  <p:cNvSpPr/>
                  <p:nvPr/>
                </p:nvSpPr>
                <p:spPr>
                  <a:xfrm>
                    <a:off x="3564000" y="2852640"/>
                    <a:ext cx="1498680" cy="2089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37"/>
                  <p:cNvSpPr/>
                  <p:nvPr/>
                </p:nvSpPr>
                <p:spPr>
                  <a:xfrm>
                    <a:off x="3780000" y="3068640"/>
                    <a:ext cx="1871640" cy="865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" name="Rectangle 40"/>
              <p:cNvSpPr/>
              <p:nvPr/>
            </p:nvSpPr>
            <p:spPr>
              <a:xfrm>
                <a:off x="4859280" y="1989000"/>
                <a:ext cx="1871640" cy="1655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Text Box 51"/>
            <p:cNvSpPr/>
            <p:nvPr/>
          </p:nvSpPr>
          <p:spPr>
            <a:xfrm>
              <a:off x="4131000" y="5734080"/>
              <a:ext cx="300492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f alkali added (cm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)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31"/>
          <p:cNvGrpSpPr/>
          <p:nvPr/>
        </p:nvGrpSpPr>
        <p:grpSpPr>
          <a:xfrm>
            <a:off x="63360" y="1700280"/>
            <a:ext cx="2494080" cy="4351320"/>
            <a:chOff x="63360" y="1700280"/>
            <a:chExt cx="2494080" cy="4351320"/>
          </a:xfrm>
        </p:grpSpPr>
        <p:pic>
          <p:nvPicPr>
            <p:cNvPr id="498" name="Picture 25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6"/>
            <p:cNvSpPr/>
            <p:nvPr/>
          </p:nvSpPr>
          <p:spPr>
            <a:xfrm>
              <a:off x="1116000" y="2492280"/>
              <a:ext cx="1441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sodium hydroxi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27"/>
            <p:cNvSpPr/>
            <p:nvPr/>
          </p:nvSpPr>
          <p:spPr>
            <a:xfrm>
              <a:off x="1116000" y="4941720"/>
              <a:ext cx="14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thanedioic 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28"/>
            <p:cNvSpPr/>
            <p:nvPr/>
          </p:nvSpPr>
          <p:spPr>
            <a:xfrm>
              <a:off x="63360" y="57117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25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29"/>
            <p:cNvSpPr/>
            <p:nvPr/>
          </p:nvSpPr>
          <p:spPr>
            <a:xfrm>
              <a:off x="395280" y="45813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50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30"/>
            <p:cNvSpPr/>
            <p:nvPr/>
          </p:nvSpPr>
          <p:spPr>
            <a:xfrm>
              <a:off x="1258920" y="3141720"/>
              <a:ext cx="1295280" cy="1798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Twice the volume of sodium hydroxide required to reach the equivalence poi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Text Box 32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3780000" y="2421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reaction is in TWO st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2" descr="oxionise"/>
          <p:cNvPicPr/>
          <p:nvPr/>
        </p:nvPicPr>
        <p:blipFill>
          <a:blip r:embed="rId3"/>
          <a:srcRect l="39356" t="0" r="0" b="-2498"/>
          <a:stretch/>
        </p:blipFill>
        <p:spPr>
          <a:xfrm>
            <a:off x="3851280" y="3500280"/>
            <a:ext cx="1998720" cy="5763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3"/>
          <p:cNvSpPr/>
          <p:nvPr/>
        </p:nvSpPr>
        <p:spPr>
          <a:xfrm>
            <a:off x="6443640" y="429264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ne of the hydrogens is easier to remove than the 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4" descr="question"/>
          <p:cNvPicPr/>
          <p:nvPr/>
        </p:nvPicPr>
        <p:blipFill>
          <a:blip r:embed="rId4"/>
          <a:stretch/>
        </p:blipFill>
        <p:spPr>
          <a:xfrm>
            <a:off x="7164360" y="2565360"/>
            <a:ext cx="752400" cy="99072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47"/>
          <p:cNvSpPr/>
          <p:nvPr/>
        </p:nvSpPr>
        <p:spPr>
          <a:xfrm>
            <a:off x="3403440" y="4838760"/>
            <a:ext cx="1697040" cy="45720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48"/>
          <p:cNvSpPr/>
          <p:nvPr/>
        </p:nvSpPr>
        <p:spPr>
          <a:xfrm>
            <a:off x="5073480" y="3276720"/>
            <a:ext cx="1717920" cy="14731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50" descr="oxionise"/>
          <p:cNvPicPr/>
          <p:nvPr/>
        </p:nvPicPr>
        <p:blipFill>
          <a:blip r:embed="rId5"/>
          <a:srcRect l="0" t="0" r="38831" b="-2498"/>
          <a:stretch/>
        </p:blipFill>
        <p:spPr>
          <a:xfrm>
            <a:off x="3924360" y="2781360"/>
            <a:ext cx="201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D2A-A5ED-45A5-8BE1-799EBA5B8D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1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A1BB-B1E5-4C79-AF43-00AB353021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4" descr="Chart of indicators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1497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5"/>
          <p:cNvSpPr/>
          <p:nvPr/>
        </p:nvSpPr>
        <p:spPr>
          <a:xfrm>
            <a:off x="324000" y="2997360"/>
            <a:ext cx="8424720" cy="43164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324000" y="3933720"/>
            <a:ext cx="8424720" cy="43200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4140360" y="2997360"/>
            <a:ext cx="2174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6804000" y="3933720"/>
            <a:ext cx="217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hoosing an Indicato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392616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680580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cc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1106-2C0F-4363-8577-3706658B01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42" descr="s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40006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F014-4F18-4C99-8D60-D0BC0E9733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s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39988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B7C-9449-42FA-AD94-C9934D1F8A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" descr="w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9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346E-9204-4181-97C0-CCA59E90A9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" descr="w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82284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–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A78E-1BC9-4064-A25F-0C22790375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carbtit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9895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Acid - Carbon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5C87-BF6D-43AD-A7FF-20D86509D1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  <p:graphicFrame>
        <p:nvGraphicFramePr>
          <p:cNvPr id="81" name="Object 7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CDBF-8E09-432D-B338-9E92F9AFBE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1979640" y="1700280"/>
            <a:ext cx="6985080" cy="3530520"/>
            <a:chOff x="1979640" y="1700280"/>
            <a:chExt cx="6985080" cy="3530520"/>
          </a:xfrm>
        </p:grpSpPr>
        <p:graphicFrame>
          <p:nvGraphicFramePr>
            <p:cNvPr id="90" name="Object 11"/>
            <p:cNvGraphicFramePr/>
            <p:nvPr/>
          </p:nvGraphicFramePr>
          <p:xfrm>
            <a:off x="1979640" y="1700280"/>
            <a:ext cx="6985080" cy="35305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79640" y="1700280"/>
                      <a:ext cx="698508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AutoShape 12"/>
            <p:cNvSpPr/>
            <p:nvPr/>
          </p:nvSpPr>
          <p:spPr>
            <a:xfrm>
              <a:off x="5560920" y="3533760"/>
              <a:ext cx="71640" cy="73080"/>
            </a:xfrm>
            <a:prstGeom prst="diamond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4" descr=""/>
          <p:cNvPicPr/>
          <p:nvPr/>
        </p:nvPicPr>
        <p:blipFill>
          <a:blip r:embed="rId4"/>
          <a:srcRect l="2750" t="21765" r="32944" b="70988"/>
          <a:stretch/>
        </p:blipFill>
        <p:spPr>
          <a:xfrm>
            <a:off x="1908000" y="1700280"/>
            <a:ext cx="705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E936-4872-4879-8455-3134E4F85D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5560920" y="3533760"/>
            <a:ext cx="71640" cy="73080"/>
          </a:xfrm>
          <a:prstGeom prst="diamond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10" descr=""/>
          <p:cNvPicPr/>
          <p:nvPr/>
        </p:nvPicPr>
        <p:blipFill>
          <a:blip r:embed="rId4"/>
          <a:srcRect l="2750" t="21765" r="32944" b="33817"/>
          <a:stretch/>
        </p:blipFill>
        <p:spPr>
          <a:xfrm>
            <a:off x="1908000" y="1700280"/>
            <a:ext cx="705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EE0F-07B9-422B-9456-5E36E8BAB3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54160" y="1868400"/>
          <a:ext cx="8165880" cy="42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68400"/>
                    <a:ext cx="8165880" cy="4226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grpSp>
        <p:nvGrpSpPr>
          <p:cNvPr id="109" name="Group 8"/>
          <p:cNvGrpSpPr/>
          <p:nvPr/>
        </p:nvGrpSpPr>
        <p:grpSpPr>
          <a:xfrm>
            <a:off x="3765600" y="3933720"/>
            <a:ext cx="2949480" cy="368280"/>
            <a:chOff x="3765600" y="3933720"/>
            <a:chExt cx="2949480" cy="368280"/>
          </a:xfrm>
        </p:grpSpPr>
        <p:sp>
          <p:nvSpPr>
            <p:cNvPr id="110" name="Text Box 4"/>
            <p:cNvSpPr/>
            <p:nvPr/>
          </p:nvSpPr>
          <p:spPr>
            <a:xfrm>
              <a:off x="3999960" y="3933720"/>
              <a:ext cx="27151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quivalence point at pH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H="1">
              <a:off x="3765600" y="4102200"/>
              <a:ext cx="287280" cy="0"/>
            </a:xfrm>
            <a:prstGeom prst="line">
              <a:avLst/>
            </a:prstGeom>
            <a:ln w="9360">
              <a:solidFill>
                <a:srgbClr val="6600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6"/>
          <p:cNvSpPr/>
          <p:nvPr/>
        </p:nvSpPr>
        <p:spPr>
          <a:xfrm flipV="1">
            <a:off x="3740040" y="4070520"/>
            <a:ext cx="0" cy="151272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671400" y="4108320"/>
            <a:ext cx="309564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33400" y="2637000"/>
            <a:ext cx="29296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500720" y="292428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362480" y="2637000"/>
            <a:ext cx="318240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01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293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3492360" y="5445000"/>
            <a:ext cx="432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364000" y="3284640"/>
            <a:ext cx="648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995640" y="4292640"/>
            <a:ext cx="288144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olutions mixed in the right proportions according to the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D30-1DAE-4A6A-983F-883D0B739E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http://www.chemguide.co.uk/physical/acidbaseeqia/sasb1.gif"/>
          <p:cNvPicPr/>
          <p:nvPr/>
        </p:nvPicPr>
        <p:blipFill>
          <a:blip r:embed="rId1"/>
          <a:stretch/>
        </p:blipFill>
        <p:spPr>
          <a:xfrm>
            <a:off x="611280" y="285264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http://www.chemguide.co.uk/physical/acidbaseeqia/sasb2.gif"/>
          <p:cNvPicPr/>
          <p:nvPr/>
        </p:nvPicPr>
        <p:blipFill>
          <a:blip r:embed="rId2"/>
          <a:stretch/>
        </p:blipFill>
        <p:spPr>
          <a:xfrm>
            <a:off x="4859280" y="2852640"/>
            <a:ext cx="3816360" cy="2683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112104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44068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220-8627-4AFB-B508-94A9872238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53600" y="2997360"/>
            <a:ext cx="6740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24360" y="2924280"/>
            <a:ext cx="2519640" cy="10094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6:51:32Z</dcterms:created>
  <dc:creator>Chem-Pics</dc:creator>
  <dc:description/>
  <dc:language>en-US</dc:language>
  <cp:lastModifiedBy>KPM</cp:lastModifiedBy>
  <dcterms:modified xsi:type="dcterms:W3CDTF">2009-10-16T09:33:54Z</dcterms:modified>
  <cp:revision>38</cp:revision>
  <dc:subject/>
  <dc:title>Calculating pH values in Titrations</dc:title>
</cp:coreProperties>
</file>